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xml.rels" ContentType="application/vnd.openxmlformats-package.relationships+xml"/>
  <Override PartName="/ppt/slideMasters/_rels/slideMaster63.xml.rels" ContentType="application/vnd.openxmlformats-package.relationships+xml"/>
  <Override PartName="/ppt/slideMasters/_rels/slideMaster5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2.xml.rels" ContentType="application/vnd.openxmlformats-package.relationships+xml"/>
  <Override PartName="/ppt/slideMasters/_rels/slideMaster64.xml.rels" ContentType="application/vnd.openxmlformats-package.relationships+xml"/>
  <Override PartName="/ppt/slideMasters/_rels/slideMaster48.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jpeg" ContentType="image/jpeg"/>
  <Override PartName="/ppt/media/image9.png" ContentType="image/png"/>
  <Override PartName="/ppt/media/image11.jpeg" ContentType="image/jpeg"/>
  <Override PartName="/ppt/media/image1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7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87.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73.xml.rels" ContentType="application/vnd.openxmlformats-package.relationships+xml"/>
  <Override PartName="/ppt/slideLayouts/_rels/slideLayout732.xml.rels" ContentType="application/vnd.openxmlformats-package.relationships+xml"/>
  <Override PartName="/ppt/slideLayouts/_rels/slideLayout681.xml.rels" ContentType="application/vnd.openxmlformats-package.relationships+xml"/>
  <Override PartName="/ppt/slideLayouts/_rels/slideLayout89.xml.rels" ContentType="application/vnd.openxmlformats-package.relationships+xml"/>
  <Override PartName="/ppt/slideLayouts/_rels/slideLayout555.xml.rels" ContentType="application/vnd.openxmlformats-package.relationships+xml"/>
  <Override PartName="/ppt/slideLayouts/_rels/slideLayout8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1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556.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588.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87.xml.rels" ContentType="application/vnd.openxmlformats-package.relationships+xml"/>
  <Override PartName="/ppt/slideLayouts/_rels/slideLayout7.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6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7.xml.rels" ContentType="application/vnd.openxmlformats-package.relationships+xml"/>
  <Override PartName="/ppt/slideLayouts/_rels/slideLayout57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320.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15.xml.rels" ContentType="application/vnd.openxmlformats-package.relationships+xml"/>
  <Override PartName="/ppt/slideLayouts/_rels/slideLayout70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580.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486.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6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68.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8.xml.rels" ContentType="application/vnd.openxmlformats-package.relationships+xml"/>
  <Override PartName="/ppt/slideLayouts/_rels/slideLayout581.xml.rels" ContentType="application/vnd.openxmlformats-package.relationships+xml"/>
  <Override PartName="/ppt/slideLayouts/_rels/slideLayout279.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56.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260.xml.rels" ContentType="application/vnd.openxmlformats-package.relationships+xml"/>
  <Override PartName="/ppt/slideLayouts/_rels/slideLayout760.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48.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12.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595.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3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35.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589.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9.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1.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9.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283.xml.rels" ContentType="application/vnd.openxmlformats-package.relationships+xml"/>
  <Override PartName="/ppt/slideLayouts/_rels/slideLayout362.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444.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265.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763.xml.rels" ContentType="application/vnd.openxmlformats-package.relationships+xml"/>
  <Override PartName="/ppt/slideLayouts/_rels/slideLayout263.xml.rels" ContentType="application/vnd.openxmlformats-package.relationships+xml"/>
  <Override PartName="/ppt/slideLayouts/_rels/slideLayout430.xml.rels" ContentType="application/vnd.openxmlformats-package.relationships+xml"/>
  <Override PartName="/ppt/slideLayouts/_rels/slideLayout72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762.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45.xml.rels" ContentType="application/vnd.openxmlformats-package.relationships+xml"/>
  <Override PartName="/ppt/slideLayouts/_rels/slideLayout74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15.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766.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02.xml" ContentType="application/vnd.openxmlformats-officedocument.presentationml.slideLayout+xml"/>
  <Override PartName="/ppt/slideLayouts/slideLayout767.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03.xml" ContentType="application/vnd.openxmlformats-officedocument.presentationml.slideLayout+xml"/>
  <Override PartName="/ppt/slideLayouts/slideLayout768.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727.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57.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60.xml" ContentType="application/vnd.openxmlformats-officedocument.presentationml.slideLayout+xml"/>
  <Override PartName="/ppt/slideLayouts/slideLayout623.xml" ContentType="application/vnd.openxmlformats-officedocument.presentationml.slideLayout+xml"/>
  <Override PartName="/ppt/slideLayouts/slideLayout722.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761.xml" ContentType="application/vnd.openxmlformats-officedocument.presentationml.slideLayout+xml"/>
  <Override PartName="/ppt/slideLayouts/slideLayout624.xml" ContentType="application/vnd.openxmlformats-officedocument.presentationml.slideLayout+xml"/>
  <Override PartName="/ppt/slideLayouts/slideLayout762.xml" ContentType="application/vnd.openxmlformats-officedocument.presentationml.slideLayout+xml"/>
  <Override PartName="/ppt/slideLayouts/slideLayout625.xml" ContentType="application/vnd.openxmlformats-officedocument.presentationml.slideLayout+xml"/>
  <Override PartName="/ppt/slideLayouts/slideLayout763.xml" ContentType="application/vnd.openxmlformats-officedocument.presentationml.slideLayout+xml"/>
  <Override PartName="/ppt/slideLayouts/slideLayout626.xml" ContentType="application/vnd.openxmlformats-officedocument.presentationml.slideLayout+xml"/>
  <Override PartName="/ppt/slideLayouts/slideLayout764.xml" ContentType="application/vnd.openxmlformats-officedocument.presentationml.slideLayout+xml"/>
  <Override PartName="/ppt/slideLayouts/slideLayout627.xml" ContentType="application/vnd.openxmlformats-officedocument.presentationml.slideLayout+xml"/>
  <Override PartName="/ppt/slideLayouts/slideLayout765.xml" ContentType="application/vnd.openxmlformats-officedocument.presentationml.slideLayout+xml"/>
  <Override PartName="/ppt/slideLayouts/slideLayout628.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31.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753.xml" ContentType="application/vnd.openxmlformats-officedocument.presentationml.slideLayout+xml"/>
  <Override PartName="/ppt/slideLayouts/slideLayout616.xml" ContentType="application/vnd.openxmlformats-officedocument.presentationml.slideLayout+xml"/>
  <Override PartName="/ppt/slideLayouts/slideLayout752.xml" ContentType="application/vnd.openxmlformats-officedocument.presentationml.slideLayout+xml"/>
  <Override PartName="/ppt/slideLayouts/slideLayout615.xml" ContentType="application/vnd.openxmlformats-officedocument.presentationml.slideLayout+xml"/>
  <Override PartName="/ppt/slideLayouts/slideLayout751.xml" ContentType="application/vnd.openxmlformats-officedocument.presentationml.slideLayout+xml"/>
  <Override PartName="/ppt/slideLayouts/slideLayout614.xml" ContentType="application/vnd.openxmlformats-officedocument.presentationml.slideLayout+xml"/>
  <Override PartName="/ppt/slideLayouts/slideLayout712.xml" ContentType="application/vnd.openxmlformats-officedocument.presentationml.slideLayout+xml"/>
  <Override PartName="/ppt/slideLayouts/slideLayout749.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651.xml" ContentType="application/vnd.openxmlformats-officedocument.presentationml.slideLayout+xml"/>
  <Override PartName="/ppt/slideLayouts/slideLayout750.xml" ContentType="application/vnd.openxmlformats-officedocument.presentationml.slideLayout+xml"/>
  <Override PartName="/ppt/slideLayouts/slideLayout613.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48.xml" ContentType="application/vnd.openxmlformats-officedocument.presentationml.slideLayout+xml"/>
  <Override PartName="/ppt/slideLayouts/slideLayout65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589.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99.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Lst>
  <p:notesMasterIdLst>
    <p:notesMasterId r:id="rId66"/>
  </p:notesMasterIdLst>
  <p:sldIdLst>
    <p:sldId id="256" r:id="rId67"/>
    <p:sldId id="257" r:id="rId68"/>
    <p:sldId id="258" r:id="rId69"/>
    <p:sldId id="259" r:id="rId70"/>
    <p:sldId id="260" r:id="rId71"/>
    <p:sldId id="261" r:id="rId72"/>
    <p:sldId id="262" r:id="rId73"/>
    <p:sldId id="263" r:id="rId74"/>
    <p:sldId id="264" r:id="rId75"/>
    <p:sldId id="265" r:id="rId76"/>
    <p:sldId id="266" r:id="rId77"/>
    <p:sldId id="267" r:id="rId78"/>
    <p:sldId id="268" r:id="rId79"/>
    <p:sldId id="269" r:id="rId80"/>
    <p:sldId id="270" r:id="rId81"/>
    <p:sldId id="271" r:id="rId82"/>
  </p:sldIdLst>
  <p:sldSz cx="9144000" cy="6858000"/>
  <p:notesSz cx="68072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notesMaster" Target="notesMasters/notesMaster1.xml"/><Relationship Id="rId67" Type="http://schemas.openxmlformats.org/officeDocument/2006/relationships/slide" Target="slides/slide1.xml"/><Relationship Id="rId68" Type="http://schemas.openxmlformats.org/officeDocument/2006/relationships/slide" Target="slides/slide2.xml"/><Relationship Id="rId69" Type="http://schemas.openxmlformats.org/officeDocument/2006/relationships/slide" Target="slides/slide3.xml"/><Relationship Id="rId70" Type="http://schemas.openxmlformats.org/officeDocument/2006/relationships/slide" Target="slides/slide4.xml"/><Relationship Id="rId71" Type="http://schemas.openxmlformats.org/officeDocument/2006/relationships/slide" Target="slides/slide5.xml"/><Relationship Id="rId72" Type="http://schemas.openxmlformats.org/officeDocument/2006/relationships/slide" Target="slides/slide6.xml"/><Relationship Id="rId73" Type="http://schemas.openxmlformats.org/officeDocument/2006/relationships/slide" Target="slides/slide7.xml"/><Relationship Id="rId74" Type="http://schemas.openxmlformats.org/officeDocument/2006/relationships/slide" Target="slides/slide8.xml"/><Relationship Id="rId75" Type="http://schemas.openxmlformats.org/officeDocument/2006/relationships/slide" Target="slides/slide9.xml"/><Relationship Id="rId76" Type="http://schemas.openxmlformats.org/officeDocument/2006/relationships/slide" Target="slides/slide10.xml"/><Relationship Id="rId77" Type="http://schemas.openxmlformats.org/officeDocument/2006/relationships/slide" Target="slides/slide11.xml"/><Relationship Id="rId78" Type="http://schemas.openxmlformats.org/officeDocument/2006/relationships/slide" Target="slides/slide12.xml"/><Relationship Id="rId79" Type="http://schemas.openxmlformats.org/officeDocument/2006/relationships/slide" Target="slides/slide13.xml"/><Relationship Id="rId80" Type="http://schemas.openxmlformats.org/officeDocument/2006/relationships/slide" Target="slides/slide14.xml"/><Relationship Id="rId81" Type="http://schemas.openxmlformats.org/officeDocument/2006/relationships/slide" Target="slides/slide15.xml"/><Relationship Id="rId82" Type="http://schemas.openxmlformats.org/officeDocument/2006/relationships/slide" Target="slides/slide16.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
          <p:cNvSpPr/>
          <p:nvPr/>
        </p:nvSpPr>
        <p:spPr>
          <a:xfrm>
            <a:off x="0" y="0"/>
            <a:ext cx="6807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47" name="PlaceHolder 1"/>
          <p:cNvSpPr>
            <a:spLocks noGrp="1"/>
          </p:cNvSpPr>
          <p:nvPr>
            <p:ph type="hdr"/>
          </p:nvPr>
        </p:nvSpPr>
        <p:spPr>
          <a:xfrm>
            <a:off x="-360" y="0"/>
            <a:ext cx="294948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8" name="PlaceHolder 2"/>
          <p:cNvSpPr>
            <a:spLocks noGrp="1"/>
          </p:cNvSpPr>
          <p:nvPr>
            <p:ph type="dt" idx="109"/>
          </p:nvPr>
        </p:nvSpPr>
        <p:spPr>
          <a:xfrm>
            <a:off x="3855600" y="0"/>
            <a:ext cx="29494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9" name="PlaceHolder 3"/>
          <p:cNvSpPr>
            <a:spLocks noGrp="1"/>
          </p:cNvSpPr>
          <p:nvPr>
            <p:ph type="sldImg"/>
          </p:nvPr>
        </p:nvSpPr>
        <p:spPr>
          <a:xfrm>
            <a:off x="926640" y="742680"/>
            <a:ext cx="49546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move the slide</a:t>
            </a:r>
            <a:endParaRPr b="0" lang="en-US" sz="3600" spc="-1" strike="noStrike">
              <a:solidFill>
                <a:srgbClr val="00aeef"/>
              </a:solidFill>
              <a:latin typeface="Arial"/>
            </a:endParaRPr>
          </a:p>
        </p:txBody>
      </p:sp>
      <p:sp>
        <p:nvSpPr>
          <p:cNvPr id="2550" name="PlaceHolder 4"/>
          <p:cNvSpPr>
            <a:spLocks noGrp="1"/>
          </p:cNvSpPr>
          <p:nvPr>
            <p:ph type="body"/>
          </p:nvPr>
        </p:nvSpPr>
        <p:spPr>
          <a:xfrm>
            <a:off x="680760" y="4704840"/>
            <a:ext cx="54450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1" name="PlaceHolder 5"/>
          <p:cNvSpPr>
            <a:spLocks noGrp="1"/>
          </p:cNvSpPr>
          <p:nvPr>
            <p:ph type="ftr" idx="110"/>
          </p:nvPr>
        </p:nvSpPr>
        <p:spPr>
          <a:xfrm>
            <a:off x="-360" y="9408960"/>
            <a:ext cx="294948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52" name="PlaceHolder 6"/>
          <p:cNvSpPr>
            <a:spLocks noGrp="1"/>
          </p:cNvSpPr>
          <p:nvPr>
            <p:ph type="sldNum" idx="111"/>
          </p:nvPr>
        </p:nvSpPr>
        <p:spPr>
          <a:xfrm>
            <a:off x="3855600" y="9408960"/>
            <a:ext cx="294948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CA86-132A-4FB2-B1ED-7CDEA0147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927000" y="743040"/>
            <a:ext cx="4954680" cy="3714840"/>
          </a:xfrm>
          <a:prstGeom prst="rect">
            <a:avLst/>
          </a:prstGeom>
          <a:ln w="0">
            <a:noFill/>
          </a:ln>
        </p:spPr>
      </p:sp>
      <p:sp>
        <p:nvSpPr>
          <p:cNvPr id="2637"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8"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E541-DC05-4049-9A2F-4870FCD8BF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sldImg"/>
          </p:nvPr>
        </p:nvSpPr>
        <p:spPr>
          <a:xfrm>
            <a:off x="927000" y="743040"/>
            <a:ext cx="4954680" cy="3714840"/>
          </a:xfrm>
          <a:prstGeom prst="rect">
            <a:avLst/>
          </a:prstGeom>
          <a:ln w="0">
            <a:noFill/>
          </a:ln>
        </p:spPr>
      </p:sp>
      <p:sp>
        <p:nvSpPr>
          <p:cNvPr id="2640"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1"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861C-8086-4DFA-B1B5-F90A9BA02A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sldImg"/>
          </p:nvPr>
        </p:nvSpPr>
        <p:spPr>
          <a:xfrm>
            <a:off x="927000" y="743040"/>
            <a:ext cx="4954680" cy="3714840"/>
          </a:xfrm>
          <a:prstGeom prst="rect">
            <a:avLst/>
          </a:prstGeom>
          <a:ln w="0">
            <a:noFill/>
          </a:ln>
        </p:spPr>
      </p:sp>
      <p:sp>
        <p:nvSpPr>
          <p:cNvPr id="2643"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4"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381C-5518-4F9C-8A0B-8D48E99C5A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927000" y="743040"/>
            <a:ext cx="4954680" cy="3714840"/>
          </a:xfrm>
          <a:prstGeom prst="rect">
            <a:avLst/>
          </a:prstGeom>
          <a:ln w="0">
            <a:noFill/>
          </a:ln>
        </p:spPr>
      </p:sp>
      <p:sp>
        <p:nvSpPr>
          <p:cNvPr id="2613"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4"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0314-4312-4070-A795-4868B14EEFE5}"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2615" name="Footer Placeholder 4"/>
          <p:cNvSpPr/>
          <p:nvPr/>
        </p:nvSpPr>
        <p:spPr>
          <a:xfrm>
            <a:off x="0" y="9408960"/>
            <a:ext cx="294948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sldImg"/>
          </p:nvPr>
        </p:nvSpPr>
        <p:spPr>
          <a:xfrm>
            <a:off x="927000" y="743040"/>
            <a:ext cx="4954680" cy="3714840"/>
          </a:xfrm>
          <a:prstGeom prst="rect">
            <a:avLst/>
          </a:prstGeom>
          <a:ln w="0">
            <a:noFill/>
          </a:ln>
        </p:spPr>
      </p:sp>
      <p:sp>
        <p:nvSpPr>
          <p:cNvPr id="2617"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8"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544F-6A26-46E4-818B-7B2F9A6D5F33}"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2619" name="Footer Placeholder 4"/>
          <p:cNvSpPr/>
          <p:nvPr/>
        </p:nvSpPr>
        <p:spPr>
          <a:xfrm>
            <a:off x="0" y="9408960"/>
            <a:ext cx="294948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sldImg"/>
          </p:nvPr>
        </p:nvSpPr>
        <p:spPr>
          <a:xfrm>
            <a:off x="927000" y="743040"/>
            <a:ext cx="4954680" cy="3714840"/>
          </a:xfrm>
          <a:prstGeom prst="rect">
            <a:avLst/>
          </a:prstGeom>
          <a:ln w="0">
            <a:noFill/>
          </a:ln>
        </p:spPr>
      </p:sp>
      <p:sp>
        <p:nvSpPr>
          <p:cNvPr id="2621"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22"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47E3-980C-4C54-9EC7-C2403698B16F}"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2623" name="Footer Placeholder 4"/>
          <p:cNvSpPr/>
          <p:nvPr/>
        </p:nvSpPr>
        <p:spPr>
          <a:xfrm>
            <a:off x="0" y="9408960"/>
            <a:ext cx="294948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927000" y="743040"/>
            <a:ext cx="4954680" cy="3714840"/>
          </a:xfrm>
          <a:prstGeom prst="rect">
            <a:avLst/>
          </a:prstGeom>
          <a:ln w="0">
            <a:noFill/>
          </a:ln>
        </p:spPr>
      </p:sp>
      <p:sp>
        <p:nvSpPr>
          <p:cNvPr id="2625"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26"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1CD7-6B4D-4DF2-B59A-3E4CF6530DB2}"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2627" name="Footer Placeholder 4"/>
          <p:cNvSpPr/>
          <p:nvPr/>
        </p:nvSpPr>
        <p:spPr>
          <a:xfrm>
            <a:off x="0" y="9408960"/>
            <a:ext cx="294948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PlaceHolder 1"/>
          <p:cNvSpPr>
            <a:spLocks noGrp="1"/>
          </p:cNvSpPr>
          <p:nvPr>
            <p:ph type="sldImg"/>
          </p:nvPr>
        </p:nvSpPr>
        <p:spPr>
          <a:xfrm>
            <a:off x="927000" y="743040"/>
            <a:ext cx="4954680" cy="3714840"/>
          </a:xfrm>
          <a:prstGeom prst="rect">
            <a:avLst/>
          </a:prstGeom>
          <a:ln w="0">
            <a:noFill/>
          </a:ln>
        </p:spPr>
      </p:sp>
      <p:sp>
        <p:nvSpPr>
          <p:cNvPr id="2629"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30"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6861-3016-4C28-981B-87C2F60D7406}"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2631" name="Footer Placeholder 4"/>
          <p:cNvSpPr/>
          <p:nvPr/>
        </p:nvSpPr>
        <p:spPr>
          <a:xfrm>
            <a:off x="0" y="9408960"/>
            <a:ext cx="294948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PlaceHolder 1"/>
          <p:cNvSpPr>
            <a:spLocks noGrp="1"/>
          </p:cNvSpPr>
          <p:nvPr>
            <p:ph type="sldImg"/>
          </p:nvPr>
        </p:nvSpPr>
        <p:spPr>
          <a:xfrm>
            <a:off x="927000" y="743040"/>
            <a:ext cx="4954680" cy="3714840"/>
          </a:xfrm>
          <a:prstGeom prst="rect">
            <a:avLst/>
          </a:prstGeom>
          <a:ln w="0">
            <a:noFill/>
          </a:ln>
        </p:spPr>
      </p:sp>
      <p:sp>
        <p:nvSpPr>
          <p:cNvPr id="2633" name="PlaceHolder 2"/>
          <p:cNvSpPr>
            <a:spLocks noGrp="1"/>
          </p:cNvSpPr>
          <p:nvPr>
            <p:ph type="body"/>
          </p:nvPr>
        </p:nvSpPr>
        <p:spPr>
          <a:xfrm>
            <a:off x="680760" y="4704840"/>
            <a:ext cx="54450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34" name="Slide Number Placeholder 3"/>
          <p:cNvSpPr/>
          <p:nvPr/>
        </p:nvSpPr>
        <p:spPr>
          <a:xfrm>
            <a:off x="3855960" y="94089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4825-1753-46F2-B5FD-2FCA9379B9FE}"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2635" name="Footer Placeholder 4"/>
          <p:cNvSpPr/>
          <p:nvPr/>
        </p:nvSpPr>
        <p:spPr>
          <a:xfrm>
            <a:off x="0" y="9408960"/>
            <a:ext cx="294948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E0CF8A-CBDE-4972-85BE-466E7DF4D6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9DE6A-FEE6-4744-9DE9-DCB3E3CC6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95B1E-7D94-4C7F-AE92-43399C5AA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1AC45-B6F5-44EA-9920-2AE0751B9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D882D-90F1-4B9B-9913-9E7940C3D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6FB24-BDC5-4221-806E-98CD6377D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013A4-C570-409D-8A6D-7507D0E95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B6F6AB-F854-49A2-97AC-571C18AE02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85ABC-12DE-4909-9804-B21AC8805A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8FB0310-FC2B-401C-9CE9-2F92E8C7CE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1DDF7D48-3E35-4186-BD44-270233772AE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F42040DD-B03F-481C-9F72-76039E5C285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D193D87B-3B81-40D7-AFA5-DDC556AD1A1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C44CA734-E002-4EE2-9789-96FB9644E63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F16FE9D8-3B28-44A8-862B-D8022D5A35A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FB742089-1365-4384-8EF3-332276850A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72121004-E370-4B1B-8EF6-4905D8D8E5D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3E97756-B8C3-4D97-8B8D-057A5620CCC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059A41E-EC5F-40F1-A551-35C3E562063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D3837D50-EFCF-4EAA-9D51-561EBEFA7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413BC33A-380A-4A77-B882-D56BCB008BB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338D983-9C31-4175-B3A9-E560B7ABB08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5F1A260C-5CD1-4E78-9782-A23827369C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D126F88C-365A-4FB0-A71B-B70C3E80403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122464E-8865-4C50-8241-E5841B952DA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2C3A8568-EABD-4210-9616-740F86EC2B8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5B15FFE9-FD3B-49D9-88D5-E69BEEC279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171006D-F704-4991-BD10-8D2511FF99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5327B89-6809-4211-948C-1F148E851F2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902738F-1564-42F9-88A3-BF86F44DC0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EA991-71F5-40D0-A001-F68D436E982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0E1DCB22-2CED-41AE-A24D-77E9EAD54D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7BA3DE8D-D9AD-461C-AA8E-AD00EEB7790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6E0CF8BE-1107-4FEE-A47D-947AA3C83B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A0BDF6A-D25D-422A-926E-D67F428C6C0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B3260A8-0A3D-4774-87C4-2AB5BCD619A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CB33F2C-1C1A-4E44-914C-B2D1C365A65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8D7FA81-3159-48B4-9AFE-34A55E5FF73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859D3E2-E114-4B8C-958D-1974BBFBDC7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DB990E1-1873-46C3-BE65-BBF6DE684DA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4F77582-186D-4C42-9D54-CC76B6B822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CA708CD-367F-4470-B5E5-3D941E6AAB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289798A-B55F-4CB2-A36F-C716201768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6429E56-3F2F-4DE8-B7B2-E8BE18E139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997AC14-1CB4-48D7-A8CE-B0B3822B81D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BB2A8AF5-179C-4A1E-AE05-308CA0EB843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01D6A31-6F36-4DD4-9887-FF435C40940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A49EF38-6105-4C74-A181-1E4EC5268C6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2D54AF8-B387-4D62-9084-40F2CE09095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5E4DE20-2686-4C5A-A0A8-93E2D80A2A9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A8C3AD7-181C-49EF-9174-54D35F4BF23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00471A1-B858-4C82-A525-37C9CB0A54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60D8034-F1A7-4B44-8810-BC2E55B977F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69A7895-61F5-42C7-AB39-AD073A84536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70E36C9-26B1-4262-B2FA-E926EF41D41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A846DD7-8A7F-4CC9-92C3-3733F71EBFD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D22CC31-32EC-4734-93DF-29C22C50AD3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6D4B513-9379-4A45-8642-692209BC863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B28FE8D-1BC8-4399-839B-6006BE380B9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BA3662A-3AC1-4C23-A523-22434BE1723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E04AE0C-9EC8-4BF2-B9A8-A96C298B380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5C187077-39E8-49AB-97A8-8AEAB5DCF5B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3F426304-B8ED-486A-B24B-D473268B9C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6578296-2BE2-4549-BD86-647AD078725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56ED8A0F-BD1F-4AF7-9FEE-355A0CAC7BE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1283C8E7-7A97-4022-A711-AEAB05E089A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ADCFB36E-430C-4065-AD18-BB0342894F3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EBF4CE13-E41D-48D3-BEC1-FBC41881B05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DD6D59D-AAF7-464F-A8DB-8799C63C6B6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80C57F6B-69E7-4226-9D00-C9B91EF0748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9241A21F-294B-479C-8A81-C0CD92A8177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47B3B0EF-C949-4C2F-899E-9F0BBD52B61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8F7B73F9-ED77-4570-A63A-9C466D20713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6E4AEBD-3ACE-4324-A51D-74108BCA04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4E4CC1E7-10C7-423E-939B-F67312A9785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546BADC-F699-46AF-B5C4-FB7A7E8AD37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3AB271CD-957D-4B39-9FEE-D0043EF8944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6D7A29C-BB0A-4518-9A29-74B6C74E8E2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D6D25346-FFE5-4D74-AB7C-532D1C5D48E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38E954DA-9311-400A-899D-7CB027E46A6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55F3CDA-FE02-4589-A5A6-7541ABD3FBB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E5EE138-6DF3-4AE9-AE1B-60463CB988C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B543984-5261-4A82-B5B3-3FE1E7AF302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EF8C2289-3966-4968-8428-16584C455BA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ADD8D879-5AC0-4C7C-81C3-93568CDB01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BCF0C38-D8EA-4A19-A824-8F59FF0F41E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AFC13EBD-CCD2-4147-A509-31784894A22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115A96F-0188-456B-9997-D06C1E8F2E5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078A4400-14DD-4AF9-83A0-A8DC94D1242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E304267B-CF99-4B1E-ACBF-49162DF653A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430B0449-7BE9-419B-8FCF-E5D8388410E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F5A2DAA6-7C96-4BFB-9C76-679B7CF938F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42BE73FF-6FA6-4632-8C75-237692AA7B6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E34D0D6-B3E3-48DA-9604-517D43FBAAC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6BE22F2D-BBF5-4C9C-BAC0-0A14D19C5E1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FAFCCDD-8801-4FC6-9009-1F563E844A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58AEBF-20D6-4E54-AF14-0766DE2BACB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0E898132-BC63-4A44-A876-459A6F4272F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DB161560-9B24-4FC4-B03B-F940862FEC7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F3B0930E-FE3A-4809-B4D9-47DB3F95CD6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09BD11D-7EC6-432D-95E6-8674CA16EAD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3CB04FB-C6F3-44C1-A86E-7C814E26024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46915C3-ED1E-4AF2-8A24-60F0DDBF1F6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B5E761A-55E5-448A-BA15-04419E32CD2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D3089BD-1E0B-4FDE-BBA0-44C6DFB1628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B4EFCB1-AD47-4623-91D8-A9E67C8C026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D5215D8-63EC-4FAE-BBF9-8F431CD51D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764D821-0B20-4A49-B4CB-E278B5FAB61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6B686D9-7625-443E-BB53-49BA1A849B2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EA0901E-996F-4283-A7CF-0BA9876A1C3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51B8A0E-324A-4D13-9001-AF505B16CDC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D0723EC-E796-4F0C-8819-6D61D2246DB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1AFDE5D-D143-4C8D-BF24-967885D0C94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10DBA93-CBF6-4140-9760-2DC2928C732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1B7ECA03-F38E-47CD-98E1-CB92241E62E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B562120A-F227-4829-BC44-9DC55FD450D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D50B4CAB-4E23-4E01-9273-A5B7EC22AF3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36923EAC-D50E-4306-9F75-763EF513AA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5B3B40-23F8-4D15-A4DD-4BBD8660767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EF9F1E2A-20FA-47DF-8F64-53A42121758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60982366-BFC9-4D72-9A8C-F9E155543E2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25BAA530-0AE7-4C90-A299-A4AF67B40ED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D0D797EC-D733-4557-A45F-37A29F8E84B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E37098D0-2A88-4778-BB01-52851C47727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395D2389-9512-4DA1-9784-29C28FFB975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B4812A31-C50C-4EE5-B153-5A330326304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1AD07B4-2F45-4178-919A-DAD6ED61782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49618A0D-CDF9-438B-85C0-B6BC7922DFD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3A456F0D-D7AD-437F-A830-461DA3E4B6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05CEFF5-0703-4FEE-BA56-3E9698F93FB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A75D88F-CE47-4555-B025-EFF392873FE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C09619F6-73F0-4ADE-8FAD-92B2E59EDA5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7125DE46-6701-4C36-A6C2-86ED1CFED3A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371E1AC-63DD-4CAE-BE86-A7C51F9028B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FD993B46-03AF-447D-9393-966154DC9B2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604D250-C5CF-47AC-A618-662D16D3A5C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B24C363F-0B01-4353-8ABA-F254E4A4BC3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BF5775D6-8BD4-4392-BEB2-ED07A0CF465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7A83D810-BBC6-441A-89B1-7DEFC434395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68F57FD-A73A-4669-A125-C4F7744EBF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D69EB24-2FC2-4109-8C47-D6B84E22D59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922D9BA4-0E6D-489E-AB0A-D0304B8FCF2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DF2CCB7B-C51D-444D-A8DA-575AD13B1D0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82D2FB30-A3C7-4C14-93CF-36CC8CE9C8F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0E7ABF95-855C-448F-BF55-0A9F5AC1C8F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274F6FE0-E09F-40F3-A2FA-271F1E40EA9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9C9F9EE4-F749-419A-A6FA-D74B6D50412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85B39341-A977-4287-A437-4E55309E4AE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B3ED3853-FF94-44AC-966C-CB1BDB32884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EBC65EBE-90B9-4413-BC22-7271C012813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5A1E1436-810C-496E-890E-E2B5DD5053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2AE38D2-9BBD-476C-B24E-96C0CE0D626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BF55DEDA-1749-4FE1-8452-80BE0717233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F934AB1-99CE-4F2C-A6D3-D8E21AF221F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19AC4EA-CB22-41F7-B867-D9B23F0D591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1B1714C-B485-42F0-9CA0-A8BA8787B13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E0F6FD7-1602-466E-AAB3-B25EF2BE78B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4D8CA2DC-F2EA-4782-A665-756C44A9CD1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70A4EB51-CA5E-45F1-BEE1-DE5FD24631B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043CC58-D512-467A-958A-DFF8B43F30A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EB50281-7D49-47B5-9382-0803C964CB6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358522B-2850-45CC-885A-BC40F4D741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F7FDDD-110A-45CC-A79E-AEC582936BE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8FB5173-BEFC-467E-8ED6-F116A3D0298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83B278C-C65F-40E3-B0DB-688DF4F2EBE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2791B92-0EA3-4F45-AC21-0A4C0C03C3E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43D410D-B459-4F5A-916C-9ED4AC258F7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C1810D76-467B-4D64-9C24-9624B9ED14A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3BC32BF7-4319-4750-A306-77175FF475F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1B91BF65-2DC3-42D6-8033-35DF5806072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2ED1654D-7F79-4881-9CCA-152A53E8050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8735345F-2544-4C4F-8C25-DFA3428B91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1269E6-85E9-4E35-9B7D-D5C5A5461A4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8BCFFE07-F454-4E09-81E4-D5E3AE41453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7A4BE47-E555-43D1-AA92-9E7D8762AD8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9CB990E-E643-4813-B545-716961A80AB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930D181-515A-4A6A-9013-2BD69629EDE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922494A9-4D6F-4828-8B97-B9082EF2986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130CEDA8-96CA-4108-B875-6F73DAA62E2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B22CFD48-77E9-43C4-9681-44BC00445C2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FE12D206-4CF0-4C60-AFAB-D5EA2D5E6A5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CCEC3703-9408-4814-9926-91389F2E5FD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CBA36658-2AFD-47E5-83D9-E97A1CEAB7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C043268-6285-45D3-BFE2-206FBBD6E36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3E13B251-D876-47D2-B5C0-040036DB1ED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15459651-4936-461F-AD7E-E46EDC2D849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1E54D0FC-29BE-4F64-9037-4A720C1604A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BCBF2EFB-BEA3-4F56-B942-EF8A56EE794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FBE6646E-EAEB-47F9-A06F-04F78E1C04E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3181D13C-7B67-4235-9C90-1A0197761C3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17CC5700-F6B2-4065-AF09-7C78D87BD15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E23A1BAF-8135-4431-9D1B-8EB78EB8571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88AD9CD4-044A-43F9-A02E-81398099980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E91DEAE-6C98-48F2-8F90-47E5B2AF7C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01E40FF-90BD-42C6-A746-30203222B84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EBB88CA-6A9E-4D90-AD4D-DE3F9291515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B924173-37A3-4042-AE36-554C77166E1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B06BE1C-2D8E-4CBF-BBE9-C2DEBEE5444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BEC4D08-B4DF-409A-9523-00C02033B22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BD0D3B8-DCE2-4159-8D79-D4B88E2A98C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B005AC9-4619-4FF0-91E9-14888860A1EB}"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865F418-BC46-43FD-BE4F-C2C8CA3964B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8F47B2C-434D-4BA1-93A0-E0A7CDA322B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2B31485-27D6-4D56-8D01-1179AE31427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3E313499-23D6-4BA2-87A4-63266B5E74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387E6CB-F257-4654-AEE0-EC97B2A430B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2CA35C6-EDA6-47A8-A255-AF5DD37AF4A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BB51DCCC-B3CC-40DF-BC8C-72F9D66142F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95B9C18A-9919-49AF-A8C0-9E1BA7584BF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2E841042-4376-4EB2-A006-4C286589D01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31B477B0-4B02-42E5-A945-0314EA81550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628BE789-DB7B-4970-80EF-DE638092C53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B2935587-5277-4529-B971-CB7CB538829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1F92F5C3-00F3-4314-8D78-34AD6D2349A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982057E6-12BD-400F-BAE2-513425113548}"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CB56A6B4-EDC1-4BBF-96A2-9B803FA355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C41CB0-2B18-4363-B400-4E2233390C5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051BAB66-95A2-4066-9571-0558CE6A52E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BB39A62F-17A2-4752-B668-B064514F5D8F}"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66E3967A-DAB9-41A5-97C8-961501E7EC4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58C6066E-61E6-4A90-A74A-C9A11B78CCF7}"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E0CF110B-B4F4-4DC2-B0F4-F8F9B2B66A30}"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4A17619B-F5AD-42F1-914F-8D636BF30E6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64517C93-CC81-41C5-9143-E8436B538F26}"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236F6742-8ED0-4B54-80A1-DED33B5DBC5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D52B37F1-D2D1-4E3B-AAA7-6008C5706F86}"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C44C7C67-90FB-407D-B0FC-3D0F49A2C8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B04DB5-5B16-42DF-A716-093C6BE0D38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D31F8471-7AA3-407A-BC26-74844EBB46B2}"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93901DE-286A-4079-974F-3F0C296BD1E0}"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D2458985-9B56-403F-94F3-0188A10D0E90}"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35DF39A5-2CDF-448D-8A18-FB0C8468627A}"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D3F67E52-E4AD-4883-82CF-44184426E6D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A058EDD-C2FF-44CE-84F4-633138E50CE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1D6EE3C-CB6E-4774-ADA8-A62A9AD2195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FB5E504-27E1-4174-A73C-396E419659B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A014A30-13B5-4EC1-BEDE-7D1E019DDF4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6EC928EF-32BC-4A95-B854-D00B108F7B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EC2ADA-FAEF-42CF-BDB0-8484DDFEDF7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7774A08-A902-4DCA-B55A-3BFA647886D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472D3D2-6175-43FE-A575-F5CF7917470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B16388F-4A12-4AC0-8765-C3069B2AFF68}"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99912FA-7F76-4498-937D-9559C219C73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DB223E88-7C36-4960-98FD-3B653B23324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AA8E8A1-D9CE-4DF7-AD05-93B6021DE7E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62D1AAAC-7340-4647-A13F-BE670598DFE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70A37874-54B0-455B-AC68-491CBCF1AB58}"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58D4F276-DE78-4F49-BAD1-EA5262F4DBFA}"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D3260FD4-5898-42AC-928A-C149C339FA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FEBE390-DB2C-4DBE-8F91-51EFB89A2B06}"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A0435482-15FE-42F5-ADAD-14B64E597D21}"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E621B530-BF6D-40E4-9E12-6A85D468651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413B193E-550C-4F84-977E-35C5626EE06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67DB7387-A086-420E-A32D-03987F54C06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199BE725-5F22-47DA-B875-F5EAF4209DC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B2EFCD14-979F-43AB-A181-CB3E108891F9}"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D34449BF-B253-4C91-9702-F9737B8D9434}"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F8297623-5AB0-4034-9457-D23E9E6380B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922D87D4-0300-4B6A-8383-1C58F05E770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7C0CD20B-9F89-4E7A-A9A3-FE405670F4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DD5C98B-4FF2-49E6-8CD8-850524035B4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F5F5FFCB-8EE9-469F-997E-A09044C64FE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14F977FE-7974-4582-A128-3C2BAFF1020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E864F413-21CD-44EE-948A-E7565A59451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BB02660E-5C57-4ADC-85D2-9F275E711508}"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C80423F4-1080-4B54-941D-DE60409FF804}"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E012DF4F-AA27-4069-8ED2-6ED5D0F20C00}"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52B52516-A9FB-4236-8DB4-2E249588F55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D1C31402-473D-4768-8061-160D38BC61F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442A85A3-0898-47B7-8BF3-59B1AD3434D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9C0F2922-C45B-40A9-AEBA-80CC9A24EC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29C3FF9-58EE-412F-84C9-374A30F7299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60280C6B-548D-4C89-A4A9-9F493FAC484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276323-4E4F-4C2A-9D1A-8706E7599C1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7BADF99-7761-427C-841C-60802F3F374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78D3A35F-CA24-4FA4-B9B1-F655189000DA}"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3BB6846-6F4B-4DA6-959E-BEC82443E22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0CBBDC5-A07A-47F6-B7F2-813626BEEA9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FB7B0713-528C-43A4-A17A-4F5924C9823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D71647F-68D9-49CA-911B-C32D48CD9FF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CB12A0-7ED2-474C-AED0-CD4C4A0121EC}"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B17EB5F0-D451-4B2E-BC43-101BCCB4694D}"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1368C3A-55FC-4C8C-9298-309EC7A857E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431B62A-1B1B-4540-BEAF-8E4137365D39}"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CA63B64-8A43-4A87-8713-C66ECECF421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7D3142B7-07C6-4F10-93EB-16BFC40E106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3FFEACF8-6E5C-460E-87AA-9986475CA61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5F2CEFCF-ECFA-4ABD-AE4E-4BAD8FAFC9B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99A1AD5D-6947-461A-91D7-C8AE443B801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47E91BA9-2D75-4808-A637-97719093430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FC6D088D-61B2-4E2B-85D8-1639B5EE55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ED7C46-AF40-41CE-951A-30D21AB7215E}"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A0EAA088-9C87-41F1-BAC5-40780294B31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C44FCD09-C949-450F-98DD-C858565192E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4B743500-99D0-4F6E-A8B5-EC849B5C60B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CCF919B2-7123-45E6-A668-1F5C00DEBF9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588AE47F-E6EB-471A-BDED-859E609DE444}"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123BA4E3-515E-4947-B63F-6834FD0C774D}"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6530BED1-D9BB-4C97-9252-FD3BC345020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D7427054-4CFE-4D98-82E9-2FFA45EC884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E6970D61-84EC-441C-89A7-414358AC1EB0}"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418D3674-43B5-436D-A797-277271C932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40F40C02-590B-446B-9646-EC4D3DBCD372}"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9E539956-FDC7-41A2-8A45-175CC380213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34A10BD2-66E2-4DD7-9396-2DAF412738C9}"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0E50038E-50B5-4FE2-87E6-FF4715E4223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49E45FE4-9628-43CE-A802-FBF0AB921AD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5EF1A1B1-0A50-42BD-A445-3346D594689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2A1003C8-FF45-4E20-82F8-0867CD5C8657}"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ED66AF05-2E1A-4CB1-8C9B-957D01F0F227}"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0311B964-E76A-4CC4-B02F-FCF08A3DC13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4DDF195F-3E11-4A13-B841-8418042E0F4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AD734747-88C0-45FA-B7F1-60549F8C826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375D884-5306-4A0E-8A7B-4C1427D98B7B}"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CA8F96A0-A89A-4F42-AF54-35B95812B7F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E8119E11-EFC5-4ACC-B238-CBF147069853}"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91AA35B0-8487-4E3A-90E6-B31528D4B1DB}"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7072B668-3A49-4E52-976D-D76DA5D4159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335E87B-2470-446C-97AC-CD9B82EB6075}"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2884B5D-34C2-4FB8-ACFC-6DD36109DBC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97FCB6D-FF1D-48BA-AF43-A8934C9CCDC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BAC45DA-CF1E-4B40-8204-3B0BA1E41D3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059D043-82A4-4F2D-BD21-C03B05316A1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560E8BC-B72B-4AAC-B17C-3AD92E0FF3E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269BD43-8E26-4158-B2AB-EB6EF3FC272E}"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2E79F4A8-492E-468B-9FF3-49A80918DAA3}"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603D47B0-D8B1-4FB1-BFB2-A8FD93FCC5B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9D1205CF-7115-4490-A348-781D297B3C35}"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49"/>
          </p:nvPr>
        </p:nvSpPr>
        <p:spPr/>
        <p:txBody>
          <a:bodyPr/>
          <a:p>
            <a:fld id="{571CBDE8-C5D3-421B-8FE6-50C09C0C1D0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69B21823-8328-4580-BCEC-46CBAD0145D5}"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8E418608-E7B5-48FD-A871-E67714145A7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62827230-F2D6-4CE6-B7B4-3F13E3039B0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F11B61E9-55B9-4B0E-8E53-47BFBE7F782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5373BEC4-3DB8-43EE-B1EA-76569021490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5FE45971-3276-41BA-AE12-651984FF03F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D2D9A7A-63AD-4E6D-8EA3-3452902058A5}"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6EC53D2A-05C6-4FAE-A30A-DB0E199AF942}"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1E8174E0-1F0E-41F8-87C9-3DE876DD51E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7C1CA463-EC95-4619-98CD-3F837570FE9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49"/>
          </p:nvPr>
        </p:nvSpPr>
        <p:spPr/>
        <p:txBody>
          <a:bodyPr/>
          <a:p>
            <a:fld id="{C7965C2B-9B41-453A-B791-A322F417AA8A}"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49"/>
          </p:nvPr>
        </p:nvSpPr>
        <p:spPr/>
        <p:txBody>
          <a:bodyPr/>
          <a:p>
            <a:fld id="{FAB344B7-3E80-4039-9B2A-F55AD113A883}"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587E07CD-CF46-4620-B9AD-076DF1A7B71D}"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1597B051-5063-4631-9626-2DBC02CE6C22}"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DE418FB8-0B04-4D6E-A9F4-0A4B65076036}"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F42A7560-D4FF-4361-834C-F49342074206}"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A2BF1304-975D-409D-BF91-4FAB901342F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5B490F-EF57-4203-98E8-A34121B0F51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7C35F5AC-A6A6-4881-AFD2-B115E726B303}"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5711758F-D31F-41D5-B771-912158CBBC9B}"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A0407FE-7DF1-46D5-8816-D6764D5FDF98}"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9A953304-B01B-4E74-A0E5-63A44BC2D922}"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7DA0B30A-BEE2-4D19-A816-3633F13DDA76}"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68E1160B-7745-4D10-8461-D8111BEEC964}"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7B8299E4-053C-4722-AC88-3CA1BA744688}"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44FDD8BA-EEDB-4712-B1DF-B52E7CF1C077}"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7A43C117-C978-420B-9D8D-A702F42C8F65}"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4E3D84E5-9C87-4070-BB92-095BE2E8D3C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7A1A3DE-DA05-43CE-92F3-D5141539DF92}"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542D02B0-BACE-4845-AE22-B2E94E9E6F0A}"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3298D54F-6CE4-4A1D-AD61-6A07421BCBD6}"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21EA3630-2EFA-44F9-A113-480A13281D4C}"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7816B35-E7D1-41C0-8E79-D5ABF31E52B3}"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CAC6A2E5-6195-4E1A-B81F-D66AE3F272ED}"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3334B805-847A-4391-A318-EE5DCEE03B2B}"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A884D02C-1A78-4E94-B0AF-00FCC14AC450}"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ACE97CC2-BB05-43BC-A717-AC43A147A12F}"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4E23BDA8-3284-4B72-856A-76DBF46B5E09}"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7B8EF144-D943-4760-97CF-1A0F676029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8F76856-2A58-4E12-8643-F033D6BB69EC}"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D8394322-0FA2-4D66-94D9-570B77377C91}"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2C2D2A33-FBBB-4F7C-A9DA-FE64F945EFE0}"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9FCAE131-CD78-415B-94C6-93D08BC9E586}"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D3F060D8-FCA8-4A2E-A7D8-D40130D76EA7}"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C34699E5-7068-4433-A09A-876CC9C5B2DB}"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2C69655F-2A56-4C9F-B2FD-0E1BABE186AA}"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5C76CF60-A4F9-4D31-BC1C-3419BCAF0176}"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C074E8C-576E-4EB7-903D-14D4E3FDC2E7}"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7EFFF454-7838-4A84-B873-02858B97395E}"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426B5A32-92F3-4231-9311-E905AFCB236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A8ADB03-FA74-4367-B487-2A0E5B2A42E9}"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376CC1C9-2F2B-49A4-B872-B22E445F8DA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B4B0CD77-BF02-4B50-802A-799BF2DDA1CC}"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5AFC0D28-5049-4534-B44E-9ADE559EFB7A}"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2693B570-403C-4536-A206-5F7EB1FF5996}"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BF1F7AD5-A132-4476-BEF0-6490A5945443}"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86E8E217-5C21-4D57-BA2F-79DFDB5F1F6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B054358E-137B-4656-A798-0CBE1B760AAD}"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13F94602-6A17-407B-9A0B-329A046959FE}"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DCA562BA-7F7A-4E5F-95D6-AF6E3C28CDA8}"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F2FD9E04-B93B-4AF0-8BAF-1D7FC115DD5B}"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E8C8BC31-65BB-4603-A871-9C94A6B7534E}"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5F805794-28F6-402B-9077-2D938276BB71}"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0A4E06CE-DC1B-4BEF-9922-4EC19283E351}"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D7EC0252-E34B-4F7B-A400-B133E5CBB4A0}"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A3C87385-80CC-4F87-9086-2A28BA90465D}"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7A537747-7EE5-4302-9E2A-98ED3FB5724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3BA421E4-E725-42E9-BC9A-288B2F6C023F}"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391C4924-423C-4F0E-B291-B7CB02BEAE9C}"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A1445B1D-6BD2-4E45-A6EA-DB537176A62C}"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BE4C1257-7256-4962-B2A2-A54F93AC9CC4}"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5D63F22A-A4F0-4264-9668-9CE813DBFA91}"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B48ADF8F-096F-4A59-A4B4-14BCAFD2E293}"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C8ECE3B6-43F0-4F00-92F0-40AE2DBB7EC3}"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CB807D01-5B7E-44C2-B0A6-39DC8BBAD6A5}"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A8363C89-1AD9-4022-A4C7-4FD8B3154CD9}"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1"/>
          </p:nvPr>
        </p:nvSpPr>
        <p:spPr/>
        <p:txBody>
          <a:bodyPr/>
          <a:p>
            <a:fld id="{AB26F263-E7DA-4A49-BBE0-4F866586439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1"/>
          </p:nvPr>
        </p:nvSpPr>
        <p:spPr/>
        <p:txBody>
          <a:bodyPr/>
          <a:p>
            <a:fld id="{91C4FE23-582E-4137-ADFD-48C2A52C0A4C}"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1"/>
          </p:nvPr>
        </p:nvSpPr>
        <p:spPr/>
        <p:txBody>
          <a:bodyPr/>
          <a:p>
            <a:fld id="{98F3A9CF-6B0A-4E58-B101-AA6E11EA29B3}"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1"/>
          </p:nvPr>
        </p:nvSpPr>
        <p:spPr/>
        <p:txBody>
          <a:bodyPr/>
          <a:p>
            <a:fld id="{64AE8C1E-831C-42B7-8748-07BAE602D171}"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1"/>
          </p:nvPr>
        </p:nvSpPr>
        <p:spPr/>
        <p:txBody>
          <a:bodyPr/>
          <a:p>
            <a:fld id="{F2C22D9D-DC6A-489D-A81C-B272B79EBFCC}"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1"/>
          </p:nvPr>
        </p:nvSpPr>
        <p:spPr/>
        <p:txBody>
          <a:bodyPr/>
          <a:p>
            <a:fld id="{16D6E803-B87F-44E3-B22C-397A5AC55435}"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1"/>
          </p:nvPr>
        </p:nvSpPr>
        <p:spPr/>
        <p:txBody>
          <a:bodyPr/>
          <a:p>
            <a:fld id="{09025791-E84C-4C6D-B115-FE4B84121D06}"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1"/>
          </p:nvPr>
        </p:nvSpPr>
        <p:spPr/>
        <p:txBody>
          <a:bodyPr/>
          <a:p>
            <a:fld id="{F4E00B3D-2502-41DE-A921-491D41E63FCE}"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1"/>
          </p:nvPr>
        </p:nvSpPr>
        <p:spPr/>
        <p:txBody>
          <a:bodyPr/>
          <a:p>
            <a:fld id="{67FE2005-8B6B-485F-982D-3AAB3C55F4E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1"/>
          </p:nvPr>
        </p:nvSpPr>
        <p:spPr/>
        <p:txBody>
          <a:bodyPr/>
          <a:p>
            <a:fld id="{FD036C9C-026B-49B3-925D-C8E8242C2E98}"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1"/>
          </p:nvPr>
        </p:nvSpPr>
        <p:spPr/>
        <p:txBody>
          <a:bodyPr/>
          <a:p>
            <a:fld id="{F60C07E1-6FFD-4963-95AE-49131B0E9AC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1"/>
          </p:nvPr>
        </p:nvSpPr>
        <p:spPr/>
        <p:txBody>
          <a:bodyPr/>
          <a:p>
            <a:fld id="{92B15993-C3AF-4B56-8260-F1B26EC124FF}"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3"/>
          </p:nvPr>
        </p:nvSpPr>
        <p:spPr/>
        <p:txBody>
          <a:bodyPr/>
          <a:p>
            <a:fld id="{83054019-B3AE-43F0-AC5C-128F317B09B9}"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8508805D-CD69-48A8-95C2-620F07B063D0}"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988AD2D8-F144-4F87-88D4-DC0DED2866B1}"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5F6818D7-8C4F-4C6F-B343-F6D48804F88A}"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940C18BB-1218-418B-AB18-A4BFEAE3FA1F}"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930B0331-7E62-48B5-8DA5-439FA652DCB4}"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2F23A9AE-E789-4872-A3F3-4923457E52F8}"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6C5F95AC-C5A8-49C8-B099-CA51B05BC443}"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79C48477-A948-44B6-97ED-E93E0A6982D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9D31DDC7-9C2D-4F99-BA0B-A4C04D1660F4}"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3"/>
          </p:nvPr>
        </p:nvSpPr>
        <p:spPr/>
        <p:txBody>
          <a:bodyPr/>
          <a:p>
            <a:fld id="{AAC74A79-5400-4B04-A753-2A0A9BCACB06}"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3"/>
          </p:nvPr>
        </p:nvSpPr>
        <p:spPr/>
        <p:txBody>
          <a:bodyPr/>
          <a:p>
            <a:fld id="{438BF477-6DFC-4000-9CCB-4E8E9F59FF0A}"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E89D81B0-101A-458C-BC3A-F0904CAB92E6}"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8A875337-519B-4363-A281-84AE40979553}"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75B9FE85-F84A-4CEA-8CC7-600AA020B84E}"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0760FC89-E412-430D-B778-B64BA1A86592}"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4FDC2F96-5DA7-41C8-9D5A-6967F6CA0B83}"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9A229F36-2A9A-4AC7-8B01-AA5DBDFC21BB}"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143265DD-210C-480F-8727-108E198FEB9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00863C7A-FC02-457D-8902-146950DD1561}"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D2C6A785-01FE-49FC-8EEA-B5AC90423BB1}"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2A3D05E5-2E90-4B4B-97AE-FFD8353F8983}"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41E5E002-2BED-48D5-958B-2877DF68AF77}"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AFDC99E6-84E3-4C5E-ADA2-F09A00015C16}"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7"/>
          </p:nvPr>
        </p:nvSpPr>
        <p:spPr/>
        <p:txBody>
          <a:bodyPr/>
          <a:p>
            <a:fld id="{DB320159-9716-4FB0-AAB9-7BA43B9DEC59}"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7"/>
          </p:nvPr>
        </p:nvSpPr>
        <p:spPr/>
        <p:txBody>
          <a:bodyPr/>
          <a:p>
            <a:fld id="{55D3EF3C-B7A6-4C48-B73D-2B6C0642A711}"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7"/>
          </p:nvPr>
        </p:nvSpPr>
        <p:spPr/>
        <p:txBody>
          <a:bodyPr/>
          <a:p>
            <a:fld id="{EB11C005-1503-4745-8FE1-DA8C7F29F64F}"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7"/>
          </p:nvPr>
        </p:nvSpPr>
        <p:spPr/>
        <p:txBody>
          <a:bodyPr/>
          <a:p>
            <a:fld id="{D906C493-B79D-4293-B86F-B1250B5603AA}"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7"/>
          </p:nvPr>
        </p:nvSpPr>
        <p:spPr/>
        <p:txBody>
          <a:bodyPr/>
          <a:p>
            <a:fld id="{54867E38-DDC8-46B9-97BE-123DA225E8F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7"/>
          </p:nvPr>
        </p:nvSpPr>
        <p:spPr/>
        <p:txBody>
          <a:bodyPr/>
          <a:p>
            <a:fld id="{B248E4C3-8908-44E0-BFCF-B71E428CB01F}"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7"/>
          </p:nvPr>
        </p:nvSpPr>
        <p:spPr/>
        <p:txBody>
          <a:bodyPr/>
          <a:p>
            <a:fld id="{6F3C5860-12B6-4EE0-8445-DE440E03D77E}"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7"/>
          </p:nvPr>
        </p:nvSpPr>
        <p:spPr/>
        <p:txBody>
          <a:bodyPr/>
          <a:p>
            <a:fld id="{5892AA40-03F8-4EAD-8D9A-753187A5820B}"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7"/>
          </p:nvPr>
        </p:nvSpPr>
        <p:spPr/>
        <p:txBody>
          <a:bodyPr/>
          <a:p>
            <a:fld id="{369693D3-11C8-4AEE-852D-4EC997512E59}"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7"/>
          </p:nvPr>
        </p:nvSpPr>
        <p:spPr/>
        <p:txBody>
          <a:bodyPr/>
          <a:p>
            <a:fld id="{95D45757-D6D7-4556-96E8-EA9682CC96E4}"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7"/>
          </p:nvPr>
        </p:nvSpPr>
        <p:spPr/>
        <p:txBody>
          <a:bodyPr/>
          <a:p>
            <a:fld id="{1FDA331B-7B71-41FD-BD38-075A0697987A}"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7"/>
          </p:nvPr>
        </p:nvSpPr>
        <p:spPr/>
        <p:txBody>
          <a:bodyPr/>
          <a:p>
            <a:fld id="{F1123131-C171-4836-8282-ED862EEF0BB3}"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69"/>
          </p:nvPr>
        </p:nvSpPr>
        <p:spPr/>
        <p:txBody>
          <a:bodyPr/>
          <a:p>
            <a:fld id="{EE0E41A0-D022-4953-92CD-E4DEE017FF76}"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69"/>
          </p:nvPr>
        </p:nvSpPr>
        <p:spPr/>
        <p:txBody>
          <a:bodyPr/>
          <a:p>
            <a:fld id="{7D4BB796-5D4D-4DFC-AC11-57B1D9207546}"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69"/>
          </p:nvPr>
        </p:nvSpPr>
        <p:spPr/>
        <p:txBody>
          <a:bodyPr/>
          <a:p>
            <a:fld id="{69629329-E389-4ABD-89C6-5945020B5E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69"/>
          </p:nvPr>
        </p:nvSpPr>
        <p:spPr/>
        <p:txBody>
          <a:bodyPr/>
          <a:p>
            <a:fld id="{F5ED53B8-2098-4C82-B4D7-236B99912977}"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69"/>
          </p:nvPr>
        </p:nvSpPr>
        <p:spPr/>
        <p:txBody>
          <a:bodyPr/>
          <a:p>
            <a:fld id="{B17CFE63-03E3-4BE2-B7EF-1C8F35B2F17E}"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69"/>
          </p:nvPr>
        </p:nvSpPr>
        <p:spPr/>
        <p:txBody>
          <a:bodyPr/>
          <a:p>
            <a:fld id="{9A013216-FCBE-4682-944C-221556D68D48}"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477D34F8-D1DE-486F-A782-0415BDC0F509}"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2669086B-7DD6-4875-BD7E-695AA73B45E7}"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9"/>
          </p:nvPr>
        </p:nvSpPr>
        <p:spPr/>
        <p:txBody>
          <a:bodyPr/>
          <a:p>
            <a:fld id="{3C458250-4FBB-4739-AAB1-5CF2CA429262}"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69"/>
          </p:nvPr>
        </p:nvSpPr>
        <p:spPr/>
        <p:txBody>
          <a:bodyPr/>
          <a:p>
            <a:fld id="{5E4085E2-A051-4A61-B9E3-4B09BF62A13B}"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69"/>
          </p:nvPr>
        </p:nvSpPr>
        <p:spPr/>
        <p:txBody>
          <a:bodyPr/>
          <a:p>
            <a:fld id="{0B006BF6-5505-4CF3-AD16-8BFF4EBDBD62}"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69"/>
          </p:nvPr>
        </p:nvSpPr>
        <p:spPr/>
        <p:txBody>
          <a:bodyPr/>
          <a:p>
            <a:fld id="{1AC1A00A-1D47-45CD-822B-425FF9BA44AB}"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5AA51072-955F-45F2-A097-F2617162D72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D14FBBF4-7FBD-4EE1-9DD8-4D5DC70BC72F}"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D86FC7DC-36AA-404D-8C74-FEBB0A130D2F}"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4BA9B4CF-9FB4-456A-92BF-89503EC28A99}"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DA273CEB-2035-4542-A9B1-F7B8AA318B16}"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DF1EBE9F-635F-4CA7-B05D-F417AED4B936}"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199D7C3F-57C8-4FE7-B013-1DA2F2DEED9F}"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A5C6A631-83EF-493A-BAE7-DEA964ABF659}"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296AE67A-A2E8-42E1-B94D-93447C800B89}"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6ECB96B8-7D21-4262-A0BB-E4E4B3F179A2}"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DAC21C2C-94AE-4205-905B-9AE3FB6623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0215B876-11AA-42C8-A82C-603239FC4933}"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3FCF8E2-7115-4650-A0F3-883A95CF1DED}"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287CE52-EEBA-4BF1-9C6E-4F8EF0C135B6}"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55452D4-FA03-4695-94BD-F0AADB3A511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2A3BAA2-DE96-44A6-B9F6-FBDF447CE7A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5F7E996-722B-400B-8E04-77A169DF4E9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667D4FB-A0E3-4047-BE01-AA1B70281D0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36C1D61-B8BC-4CB4-AC2F-01D7EF728D6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626A731-C8D2-4170-B706-57AA991F9C73}"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EDFD938-9035-46EB-B595-D5D4E77073B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FF46ECE-7E29-4160-88A6-23C3025342B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C4E76F1-2142-48AE-89F8-2C6AAAF5C7E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C2FF63E-296D-4FA0-846D-BC93D5B6346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B32BCEB-9B34-4AA9-910B-CB8EE97A470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E739F9C-8CCC-4EE7-B532-03B0134FC5B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958AC2E-38C6-4A12-BBF9-CC4A2198666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4AD8860-F93B-4F90-A151-D728E4EA73F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BB073A5-E370-46AC-B559-49184DF19FA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01596AF-843A-4579-AB1F-6276DFC4D7C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E5EF65D-802C-41C6-9C36-43D90BC20096}"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2336227-FBF3-4D7F-8BE4-1221AC0C5B8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B640027-CEA5-4821-98EC-9C5342F0C58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91CFE6E-DAC9-4AE1-AD91-02A483B80A6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44B421F-A459-4D5B-81CB-80C917EE1F3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5F7CB69-4E06-49A2-AFC1-D53DED48BE5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83C2771-B329-4536-8B28-DF0EFABD9C6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FA14F36-8F82-44BF-992D-993DAC63A58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60A826E-5CBE-4E5A-8C4F-936C6D27EC4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4E76798-A66F-4FE7-84C9-7AAB74E5A48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32C7DBE-CE31-45CE-A8F4-A3CAC08622D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E92CF53-68DA-4A11-9269-AD90A1A2F21F}"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8A5A58E-F396-41AD-8129-58BE0CB3CCE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4C9A554-53E8-4ADB-9743-407B07371FF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FC1E63A-FD6D-4061-AB77-986057F2FA6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9D47D81-0C02-4B37-AE18-C3730071382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2E613BD-A65C-458F-9785-32D77130BDF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E794CC4-096A-4C91-BF97-9902BC98D5A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61DFC0C-1D61-44C2-BA5F-EB44A643AFC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0792BE5-410F-42E3-B833-F1F311D86F7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A538018-054F-4C48-BCFE-B116DD92603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04ACFE4-1EA6-41EB-8588-9676EE2DE26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E898C51-C27F-4001-A86F-C3C7CD82A736}"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A97FFA7-215A-4B70-86BD-63643DFECD5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CE45604-BE04-4D7A-B6AC-BEEA4276376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C48BAC3-1C39-4F75-BA0D-C49AFD4A561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2852F04-733D-4265-A422-F2DE12CC235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1F08D18-4D3F-4CED-9635-CB24E7AB719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3A00CB1-7DD0-418D-8F32-B1BE773874E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6C9FEA5-C158-4C14-9391-32261E4E269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C5E7864-F627-4472-9C07-12B91352E4A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D71EED2-25C0-44B0-AE09-40BADA8CF83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D96913F-0815-45FF-BD94-C10C3B728E5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6AD4B76-E6EB-4899-9B44-07E24AE6CDD3}"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547D487-3A7F-4D08-8AC8-2A31785213F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14A7EFF-6AA8-4824-8E79-775B9742CAE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1743E66-F360-428B-B8A6-E41BEB8C79E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11024B6-25F8-4B65-87AF-D68A0EB8A80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D0F754C-9155-44A7-96DE-AE44F183764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A67B437-1111-49EF-BDE4-5DFA9CFBBFE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6E88416-A37A-44C9-A268-3CB2C6E834B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2995E52-E01E-4098-AA7B-4532B863A6D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1398BAF-0CE5-48D0-9648-FAEB3B7A8E7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3D92DFD-462F-4D78-B790-BEB4023624C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AEDD1EA-FB13-4924-BDE2-FECB4FF1AF81}"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37B96A1-9BD7-4BBE-9213-03997144479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30B344A-C8D6-46E5-8135-B826A21A398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AE8B193-B1A3-43D2-9679-4B8B41ABFB4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D5C7AFC-6EA6-4110-B3BD-9E53C04FF0A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CF456ED-7843-4245-8A03-600CFB9E419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DACAA5F-23C9-4A28-B088-BFEB203B71E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CA27EC8-1A16-4635-9289-367FD349DE7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535055D-1119-49B8-B122-628FC5DB2FE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A2CF6FD-130B-4B19-8737-572A796413E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075FDA9-94EC-472A-9FE7-6D19CBABB86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C686FB0-6756-4642-8421-BACE496B8B2D}"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739AA2F-3540-47B8-9D17-3FF242F3F9D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C726323-BE7D-4E04-AAB4-D2999856235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1D3CFF9-B454-4FDB-B1C6-57E6A58C4B4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89AAF72-E8DC-48A2-A6CE-CC8B75E2203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16A3821-DFB9-4386-9FF8-8EFDEDA860E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8FF39C2-70C8-41E6-9671-C97A11576AB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4335BFE-DC71-4D54-88B0-C49779A6431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8B04273-72E4-4F94-A31A-D70264036B1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54CA010-34E3-420A-B52F-CD3ACB86ED7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F6B0CCE-5D17-4CC2-9836-AE0BA6A44B8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F488414-18BB-4EA0-9CAE-D5B651CE5914}"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0FD4018-1447-4D27-BC82-6ADBA0C28F4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F5E5500-D0B8-4E94-8FE2-B67A4F983B0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FB05EC5-B424-478B-B161-D15B58BA650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CCCBF9A-A346-4294-BA1F-FCC44B34110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4DB839B-14B7-49CE-92B5-4C5E2D47B5B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067A728-332B-4E8F-992D-D52E23E7738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3E45181-3D42-4AA5-A733-CD02C746CAA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04F5E26-7E41-488A-8D01-5EA0C920B5C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B9E14DC-753C-4EB6-9569-66A8D1173E3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A845994-0392-425E-A89B-1684368F041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25D2343-5B32-4514-9B12-FF1FAAFDB3E7}"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B687C21-A5A8-4478-8F38-D19B656FCCA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2E71A33-95D1-4E92-B5CE-882D4606C32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01C3955-C8E5-418C-B79F-5AAE3E33671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8D40E84-70EC-48F9-8042-0D152EF047A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657A9B8-8043-4C14-B882-88B4DDFC57E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C210C8D-2B41-4F52-9B0C-D0C94E87117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EFF52D1-4CFF-406B-B143-E1FA871A41D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24F771D-9989-4CDF-8DEC-B5A30BC823A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B32D462-B257-47F8-9590-7EC07BBF047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522DB5C-B122-408B-9092-6558DD15E558}"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D6378DF-59CC-4769-8240-98A047C8ECE6}"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6F5876B-CA23-4227-ADA7-B77D341D9D7C}"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8431B3C-3601-40A1-AAF8-B6454CDF529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AC46D71-A834-49F6-8DA7-5934A30CFD0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8AC327E-4D43-491E-BBFE-159EC18EAFC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30C1797-CB0D-4BC2-9545-962FDDA841A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805580E-0E9B-4969-AD77-34814A9D6B0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0708BBD-CFB2-4C46-80F7-E2A6FD8086B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DBFAD0D-A606-4DA9-B5C6-6D509FFC330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D7EC0DC-FB33-44CF-BBD5-FFD8B4FDC24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4FC67FC-F331-4F2F-B140-B18105EB631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57E7DB2A-6D4E-45A9-92E3-F8CDC46A8BCA}"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27E6E6B-E36B-40AF-A340-1C65ADF8F00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9D1FB46-39AA-407F-83E8-FEB78FF70CC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5952852-3569-44E0-978B-EDCAA3DFED5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B67852F-28FB-4635-AE23-1868634A48B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13C5DA8-68A5-49FE-BB8F-14723BD8CDE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501B6F2-1667-4292-885B-D7FADD8F2A9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9D3FD92-72A4-43D4-9824-8F20D70610A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15872C8-6893-4372-8031-731E955445A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1D7945E-8BD1-4DE4-B4F2-E2875A186A6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B90D8B4-DF9B-4E0D-9245-254A2869C37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C2C77A29-9FE2-411A-8E0E-44897AA66B32}"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D1E582D-EAD5-4DFE-A65C-3D89D5B93AA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668C7A0-70BF-4422-B0A7-E1B657529F9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E3033A4-10C2-482D-AB31-37FC1516116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E799F682-C7E6-4602-8053-BE4EC5C055A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2402FE2-437D-4ADF-80DE-0CD8C42D93F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5BE3836-5D86-411B-B62B-0D20B4CEE571}"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40C4213-BD8F-4DB0-BFD6-2BE31C44143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FA62576-AB28-4123-84CC-0764541CE47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EFD4707-D7C5-47D9-8282-B26325D1205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718DC1E-B0F8-41BF-8C82-926D54B012D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57ABA2C-27B0-4D7E-9070-AFD382C7B2CE}"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85CF56A-E789-44EF-9294-C8BE4D17013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1E980F7-1FED-4BD9-9DA8-C08728B9814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52CC877-4138-4E8A-B105-24BC170AC85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F325662-5EB7-4DBE-A8C6-370162B985C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F0B6E44-71DD-4D1D-8CE6-E6FDD8D79BB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925F452-1EDD-42FA-98E8-5D31DD1D541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B1F970D-A94C-43AC-89D5-567E38AA105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E067DD8-35D7-42D4-9CC5-2B05B407527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58733A7-BD16-4D09-804B-6316F2E20F2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F0ED406-198C-4451-A648-4465ADE554A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19FDAE31-22CF-4558-AD34-10BB447AB5F1}"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10E0F27-BFAE-415D-9049-38733DA53B8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F0A019D-F1E1-4325-8CF6-8E6E3164D63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63D851C-8907-4AAE-BA7F-CE9A484D17F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CBAB8B5-2CAD-4907-A436-E91D3E20958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9CFF761-885A-440C-8253-DD574EDF95F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FDE0A20-18E9-4A5C-9AC8-6EBE68C62C1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208D8F5-A06B-47EE-8CDA-E69A5ACD7B6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B24B280-6A12-43C8-B64A-7EF603A9971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435402D-8F66-411F-9F01-59DB6D6636E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A1336E6D-6D70-44A1-80F3-42951BFF942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D8FD893C-AF6F-4940-8845-C9F1C838609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C46DB57A-326F-452F-9FBB-667BCA44E8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664B47E-D3A3-4CC9-A7ED-2ACBF4D5E96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5E0F783-B70A-4A97-8BF6-78B0927CAB3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A960692-0230-4002-8881-AF1A554DB9A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750C9995-69F9-4936-92BB-5A39D0C801F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4054AF39-9F40-4B85-95BC-9717C4882FF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5EFD18-F7F6-4B6B-A395-B0CBE77CB0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A052DB-620B-408A-A232-C80E13658AC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351B51-8326-41A8-B6BA-65647E6F96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71462B-F990-426C-8E8F-A420DB8CD46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536E66-275B-44DA-9C64-A2D98975A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7C4AC1-AD33-4C57-9544-58FC6071FB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021774-99B2-4440-9995-9B69E12398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8074B8-A6C2-44D7-8C7B-D8210A432F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71FD4F-9092-4862-B029-9AF72165605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0F42BF-DAC8-4B4F-8554-29FFFBC2CD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D37B98F-7C75-4AB3-863B-7FBD30568A4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D2CD6F4-6C26-46C7-97D6-D0266EA23F4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08B691-F79A-4A12-A7DF-A00809CA8F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4FC6D-BFC8-4F49-AD03-852EFDF3C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C8C4F-CF08-41EE-83A7-03EE13B09297}"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5.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5.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5.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5.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5.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6.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757.xml"/><Relationship Id="rId5" Type="http://schemas.openxmlformats.org/officeDocument/2006/relationships/slideLayout" Target="../slideLayouts/slideLayout758.xml"/><Relationship Id="rId6" Type="http://schemas.openxmlformats.org/officeDocument/2006/relationships/slideLayout" Target="../slideLayouts/slideLayout759.xml"/><Relationship Id="rId7" Type="http://schemas.openxmlformats.org/officeDocument/2006/relationships/slideLayout" Target="../slideLayouts/slideLayout760.xml"/><Relationship Id="rId8" Type="http://schemas.openxmlformats.org/officeDocument/2006/relationships/slideLayout" Target="../slideLayouts/slideLayout761.xml"/><Relationship Id="rId9" Type="http://schemas.openxmlformats.org/officeDocument/2006/relationships/slideLayout" Target="../slideLayouts/slideLayout762.xml"/><Relationship Id="rId10" Type="http://schemas.openxmlformats.org/officeDocument/2006/relationships/slideLayout" Target="../slideLayouts/slideLayout763.xml"/><Relationship Id="rId11" Type="http://schemas.openxmlformats.org/officeDocument/2006/relationships/slideLayout" Target="../slideLayouts/slideLayout764.xml"/><Relationship Id="rId12" Type="http://schemas.openxmlformats.org/officeDocument/2006/relationships/slideLayout" Target="../slideLayouts/slideLayout765.xml"/><Relationship Id="rId13" Type="http://schemas.openxmlformats.org/officeDocument/2006/relationships/slideLayout" Target="../slideLayouts/slideLayout766.xml"/><Relationship Id="rId14" Type="http://schemas.openxmlformats.org/officeDocument/2006/relationships/slideLayout" Target="../slideLayouts/slideLayout767.xml"/><Relationship Id="rId15" Type="http://schemas.openxmlformats.org/officeDocument/2006/relationships/slideLayout" Target="../slideLayouts/slideLayout76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D7CC-68CE-4A21-925A-A4A67F09A24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6462-5ACB-4251-BE8A-5DA9BB4BA01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5DFE-DB65-4EA2-A85E-5BF82B72ACD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PlaceHolder 1"/>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D6CE-6FFF-4180-8147-148D5FC1ABE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B138-4F4B-4662-8A75-3605D56B5BF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4026-7473-4CB6-8C00-64EFFFD998E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8" name="PlaceHolder 1"/>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0DA9-9E23-4950-9151-61298EEE741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5" name="PlaceHolder 1"/>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8485-8D6F-4C4A-835F-C9836A5422D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8221-8690-40D4-80FC-F4FFF002519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9" name="PlaceHolder 1"/>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2947-0D79-4EEF-8480-ED6D741525D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58F2-ABC4-4D33-A92A-163A4A6DCA4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6" name="PlaceHolder 1"/>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4FBC-159A-4FC0-BABF-556D02E10E3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3" name="PlaceHolder 1"/>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0053-81B3-4EAB-9AB4-1154CC69E76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Picture 7" descr="DECC-graphic.pdf"/>
          <p:cNvPicPr/>
          <p:nvPr/>
        </p:nvPicPr>
        <p:blipFill>
          <a:blip r:embed="rId2"/>
          <a:stretch/>
        </p:blipFill>
        <p:spPr>
          <a:xfrm>
            <a:off x="0" y="287280"/>
            <a:ext cx="9144000" cy="6462720"/>
          </a:xfrm>
          <a:prstGeom prst="rect">
            <a:avLst/>
          </a:prstGeom>
          <a:ln w="0">
            <a:noFill/>
          </a:ln>
        </p:spPr>
      </p:pic>
      <p:pic>
        <p:nvPicPr>
          <p:cNvPr id="791" name="Picture 8" descr="DECC_CYAN_AW.jpg"/>
          <p:cNvPicPr/>
          <p:nvPr/>
        </p:nvPicPr>
        <p:blipFill>
          <a:blip r:embed="rId3"/>
          <a:stretch/>
        </p:blipFill>
        <p:spPr>
          <a:xfrm>
            <a:off x="573120" y="260280"/>
            <a:ext cx="1089000" cy="720720"/>
          </a:xfrm>
          <a:prstGeom prst="rect">
            <a:avLst/>
          </a:prstGeom>
          <a:ln w="0">
            <a:noFill/>
          </a:ln>
        </p:spPr>
      </p:pic>
      <p:sp>
        <p:nvSpPr>
          <p:cNvPr id="792"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793"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7" descr="DECC_CYAN_AW.jpg"/>
          <p:cNvPicPr/>
          <p:nvPr/>
        </p:nvPicPr>
        <p:blipFill>
          <a:blip r:embed="rId2"/>
          <a:stretch/>
        </p:blipFill>
        <p:spPr>
          <a:xfrm>
            <a:off x="573120" y="260280"/>
            <a:ext cx="1089000" cy="720720"/>
          </a:xfrm>
          <a:prstGeom prst="rect">
            <a:avLst/>
          </a:prstGeom>
          <a:ln w="0">
            <a:noFill/>
          </a:ln>
        </p:spPr>
      </p:pic>
      <p:sp>
        <p:nvSpPr>
          <p:cNvPr id="831"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832"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833" name="PlaceHolder 3"/>
          <p:cNvSpPr>
            <a:spLocks noGrp="1"/>
          </p:cNvSpPr>
          <p:nvPr>
            <p:ph type="sldNum" idx="25"/>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615D-0579-4716-B1CA-577E5D2C7E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34" name="PlaceHolder 4"/>
          <p:cNvSpPr>
            <a:spLocks noGrp="1"/>
          </p:cNvSpPr>
          <p:nvPr>
            <p:ph type="ftr" idx="26"/>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Picture 7" descr="DECC_CYAN_AW.jpg"/>
          <p:cNvPicPr/>
          <p:nvPr/>
        </p:nvPicPr>
        <p:blipFill>
          <a:blip r:embed="rId2"/>
          <a:stretch/>
        </p:blipFill>
        <p:spPr>
          <a:xfrm>
            <a:off x="573120" y="260280"/>
            <a:ext cx="1089000" cy="720720"/>
          </a:xfrm>
          <a:prstGeom prst="rect">
            <a:avLst/>
          </a:prstGeom>
          <a:ln w="0">
            <a:noFill/>
          </a:ln>
        </p:spPr>
      </p:pic>
      <p:sp>
        <p:nvSpPr>
          <p:cNvPr id="872"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873"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874" name="PlaceHolder 3"/>
          <p:cNvSpPr>
            <a:spLocks noGrp="1"/>
          </p:cNvSpPr>
          <p:nvPr>
            <p:ph type="sldNum" idx="27"/>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46EB-E0B7-47E9-BF0B-1CACF60CAE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75" name="PlaceHolder 4"/>
          <p:cNvSpPr>
            <a:spLocks noGrp="1"/>
          </p:cNvSpPr>
          <p:nvPr>
            <p:ph type="ftr" idx="28"/>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7" descr="DECC_CYAN_AW.jpg"/>
          <p:cNvPicPr/>
          <p:nvPr/>
        </p:nvPicPr>
        <p:blipFill>
          <a:blip r:embed="rId2"/>
          <a:stretch/>
        </p:blipFill>
        <p:spPr>
          <a:xfrm>
            <a:off x="573120" y="260280"/>
            <a:ext cx="1089000" cy="720720"/>
          </a:xfrm>
          <a:prstGeom prst="rect">
            <a:avLst/>
          </a:prstGeom>
          <a:ln w="0">
            <a:noFill/>
          </a:ln>
        </p:spPr>
      </p:pic>
      <p:sp>
        <p:nvSpPr>
          <p:cNvPr id="913"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914"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915" name="PlaceHolder 3"/>
          <p:cNvSpPr>
            <a:spLocks noGrp="1"/>
          </p:cNvSpPr>
          <p:nvPr>
            <p:ph type="sldNum" idx="29"/>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6E71-8500-432D-8ADD-71669EEC2D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16" name="PlaceHolder 4"/>
          <p:cNvSpPr>
            <a:spLocks noGrp="1"/>
          </p:cNvSpPr>
          <p:nvPr>
            <p:ph type="ftr" idx="30"/>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7" descr="DECC_CYAN_AW.jpg"/>
          <p:cNvPicPr/>
          <p:nvPr/>
        </p:nvPicPr>
        <p:blipFill>
          <a:blip r:embed="rId2"/>
          <a:stretch/>
        </p:blipFill>
        <p:spPr>
          <a:xfrm>
            <a:off x="573120" y="260280"/>
            <a:ext cx="1089000" cy="720720"/>
          </a:xfrm>
          <a:prstGeom prst="rect">
            <a:avLst/>
          </a:prstGeom>
          <a:ln w="0">
            <a:noFill/>
          </a:ln>
        </p:spPr>
      </p:pic>
      <p:sp>
        <p:nvSpPr>
          <p:cNvPr id="954"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955"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956" name="PlaceHolder 3"/>
          <p:cNvSpPr>
            <a:spLocks noGrp="1"/>
          </p:cNvSpPr>
          <p:nvPr>
            <p:ph type="sldNum" idx="31"/>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8466-A32A-41B2-BCB1-B4EBA8C9F3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57" name="PlaceHolder 4"/>
          <p:cNvSpPr>
            <a:spLocks noGrp="1"/>
          </p:cNvSpPr>
          <p:nvPr>
            <p:ph type="ftr" idx="32"/>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4" name="Picture 7" descr="DECC_CYAN_AW.jpg"/>
          <p:cNvPicPr/>
          <p:nvPr/>
        </p:nvPicPr>
        <p:blipFill>
          <a:blip r:embed="rId2"/>
          <a:stretch/>
        </p:blipFill>
        <p:spPr>
          <a:xfrm>
            <a:off x="573120" y="260280"/>
            <a:ext cx="1089000" cy="720720"/>
          </a:xfrm>
          <a:prstGeom prst="rect">
            <a:avLst/>
          </a:prstGeom>
          <a:ln w="0">
            <a:noFill/>
          </a:ln>
        </p:spPr>
      </p:pic>
      <p:sp>
        <p:nvSpPr>
          <p:cNvPr id="995"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996"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997" name="PlaceHolder 3"/>
          <p:cNvSpPr>
            <a:spLocks noGrp="1"/>
          </p:cNvSpPr>
          <p:nvPr>
            <p:ph type="sldNum" idx="33"/>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7FDE-C039-4F20-9041-2886DC5FAC3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98" name="PlaceHolder 4"/>
          <p:cNvSpPr>
            <a:spLocks noGrp="1"/>
          </p:cNvSpPr>
          <p:nvPr>
            <p:ph type="ftr" idx="34"/>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5" name="Picture 7" descr="DECC_CYAN_AW.jpg"/>
          <p:cNvPicPr/>
          <p:nvPr/>
        </p:nvPicPr>
        <p:blipFill>
          <a:blip r:embed="rId2"/>
          <a:stretch/>
        </p:blipFill>
        <p:spPr>
          <a:xfrm>
            <a:off x="573120" y="260280"/>
            <a:ext cx="1089000" cy="720720"/>
          </a:xfrm>
          <a:prstGeom prst="rect">
            <a:avLst/>
          </a:prstGeom>
          <a:ln w="0">
            <a:noFill/>
          </a:ln>
        </p:spPr>
      </p:pic>
      <p:sp>
        <p:nvSpPr>
          <p:cNvPr id="1036"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037"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038" name="PlaceHolder 3"/>
          <p:cNvSpPr>
            <a:spLocks noGrp="1"/>
          </p:cNvSpPr>
          <p:nvPr>
            <p:ph type="sldNum" idx="35"/>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1252-8E89-428F-A59B-1A16D01B66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039" name="PlaceHolder 4"/>
          <p:cNvSpPr>
            <a:spLocks noGrp="1"/>
          </p:cNvSpPr>
          <p:nvPr>
            <p:ph type="ftr" idx="36"/>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Rectangle 7"/>
          <p:cNvSpPr/>
          <p:nvPr/>
        </p:nvSpPr>
        <p:spPr>
          <a:xfrm>
            <a:off x="-12600" y="1212840"/>
            <a:ext cx="9180360" cy="5670720"/>
          </a:xfrm>
          <a:prstGeom prst="rect">
            <a:avLst/>
          </a:prstGeom>
          <a:solidFill>
            <a:srgbClr val="00ae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7" name="Picture 8" descr="DECC_CYAN_AW.jpg"/>
          <p:cNvPicPr/>
          <p:nvPr/>
        </p:nvPicPr>
        <p:blipFill>
          <a:blip r:embed="rId2"/>
          <a:stretch/>
        </p:blipFill>
        <p:spPr>
          <a:xfrm>
            <a:off x="573120" y="260280"/>
            <a:ext cx="1089000" cy="720720"/>
          </a:xfrm>
          <a:prstGeom prst="rect">
            <a:avLst/>
          </a:prstGeom>
          <a:ln w="0">
            <a:noFill/>
          </a:ln>
        </p:spPr>
      </p:pic>
      <p:sp>
        <p:nvSpPr>
          <p:cNvPr id="1078"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079"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080" name="PlaceHolder 3"/>
          <p:cNvSpPr>
            <a:spLocks noGrp="1"/>
          </p:cNvSpPr>
          <p:nvPr>
            <p:ph type="sldNum" idx="37"/>
          </p:nvPr>
        </p:nvSpPr>
        <p:spPr>
          <a:xfrm>
            <a:off x="0" y="6308640"/>
            <a:ext cx="9144000" cy="549360"/>
          </a:xfrm>
          <a:prstGeom prst="rect">
            <a:avLst/>
          </a:prstGeom>
          <a:no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1A3E-13C2-4B0C-8B7C-26FFFB50D8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081" name="PlaceHolder 4"/>
          <p:cNvSpPr>
            <a:spLocks noGrp="1"/>
          </p:cNvSpPr>
          <p:nvPr>
            <p:ph type="ftr" idx="38"/>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3814-6C19-475B-AB28-1E12E4C9363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119"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120" name="PlaceHolder 3"/>
          <p:cNvSpPr>
            <a:spLocks noGrp="1"/>
          </p:cNvSpPr>
          <p:nvPr>
            <p:ph type="sldNum" idx="39"/>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5A73-D7C2-4DDC-BB22-BA0AA939C3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121" name="PlaceHolder 4"/>
          <p:cNvSpPr>
            <a:spLocks noGrp="1"/>
          </p:cNvSpPr>
          <p:nvPr>
            <p:ph type="ftr" idx="40"/>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Picture 7" descr="DECC-graphic.pdf"/>
          <p:cNvPicPr/>
          <p:nvPr/>
        </p:nvPicPr>
        <p:blipFill>
          <a:blip r:embed="rId2"/>
          <a:stretch/>
        </p:blipFill>
        <p:spPr>
          <a:xfrm>
            <a:off x="0" y="287280"/>
            <a:ext cx="9144000" cy="6462720"/>
          </a:xfrm>
          <a:prstGeom prst="rect">
            <a:avLst/>
          </a:prstGeom>
          <a:ln w="0">
            <a:noFill/>
          </a:ln>
        </p:spPr>
      </p:pic>
      <p:pic>
        <p:nvPicPr>
          <p:cNvPr id="1159" name="Picture 8" descr="DECC_CYAN_AW.jpg"/>
          <p:cNvPicPr/>
          <p:nvPr/>
        </p:nvPicPr>
        <p:blipFill>
          <a:blip r:embed="rId3"/>
          <a:stretch/>
        </p:blipFill>
        <p:spPr>
          <a:xfrm>
            <a:off x="573120" y="260280"/>
            <a:ext cx="1089000" cy="720720"/>
          </a:xfrm>
          <a:prstGeom prst="rect">
            <a:avLst/>
          </a:prstGeom>
          <a:ln w="0">
            <a:noFill/>
          </a:ln>
        </p:spPr>
      </p:pic>
      <p:sp>
        <p:nvSpPr>
          <p:cNvPr id="1160"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161"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8" name="Picture 7" descr="DECC-graphic.pdf"/>
          <p:cNvPicPr/>
          <p:nvPr/>
        </p:nvPicPr>
        <p:blipFill>
          <a:blip r:embed="rId2"/>
          <a:stretch/>
        </p:blipFill>
        <p:spPr>
          <a:xfrm>
            <a:off x="0" y="287280"/>
            <a:ext cx="9144000" cy="6462720"/>
          </a:xfrm>
          <a:prstGeom prst="rect">
            <a:avLst/>
          </a:prstGeom>
          <a:ln w="0">
            <a:noFill/>
          </a:ln>
        </p:spPr>
      </p:pic>
      <p:pic>
        <p:nvPicPr>
          <p:cNvPr id="1199" name="Picture 8" descr="DECC_CYAN_AW.jpg"/>
          <p:cNvPicPr/>
          <p:nvPr/>
        </p:nvPicPr>
        <p:blipFill>
          <a:blip r:embed="rId3"/>
          <a:stretch/>
        </p:blipFill>
        <p:spPr>
          <a:xfrm>
            <a:off x="573120" y="260280"/>
            <a:ext cx="1089000" cy="720720"/>
          </a:xfrm>
          <a:prstGeom prst="rect">
            <a:avLst/>
          </a:prstGeom>
          <a:ln w="0">
            <a:noFill/>
          </a:ln>
        </p:spPr>
      </p:pic>
      <p:sp>
        <p:nvSpPr>
          <p:cNvPr id="1200"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201"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8" name="Picture 7" descr="DECC_CYAN_AW.jpg"/>
          <p:cNvPicPr/>
          <p:nvPr/>
        </p:nvPicPr>
        <p:blipFill>
          <a:blip r:embed="rId2"/>
          <a:stretch/>
        </p:blipFill>
        <p:spPr>
          <a:xfrm>
            <a:off x="573120" y="260280"/>
            <a:ext cx="1089000" cy="720720"/>
          </a:xfrm>
          <a:prstGeom prst="rect">
            <a:avLst/>
          </a:prstGeom>
          <a:ln w="0">
            <a:noFill/>
          </a:ln>
        </p:spPr>
      </p:pic>
      <p:sp>
        <p:nvSpPr>
          <p:cNvPr id="1239"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240"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241" name="PlaceHolder 3"/>
          <p:cNvSpPr>
            <a:spLocks noGrp="1"/>
          </p:cNvSpPr>
          <p:nvPr>
            <p:ph type="sldNum" idx="41"/>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EE83-67BD-409D-AF99-01F596B31F1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42" name="PlaceHolder 4"/>
          <p:cNvSpPr>
            <a:spLocks noGrp="1"/>
          </p:cNvSpPr>
          <p:nvPr>
            <p:ph type="ftr" idx="42"/>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9" name="Picture 7" descr="DECC_CYAN_AW.jpg"/>
          <p:cNvPicPr/>
          <p:nvPr/>
        </p:nvPicPr>
        <p:blipFill>
          <a:blip r:embed="rId2"/>
          <a:stretch/>
        </p:blipFill>
        <p:spPr>
          <a:xfrm>
            <a:off x="573120" y="260280"/>
            <a:ext cx="1089000" cy="720720"/>
          </a:xfrm>
          <a:prstGeom prst="rect">
            <a:avLst/>
          </a:prstGeom>
          <a:ln w="0">
            <a:noFill/>
          </a:ln>
        </p:spPr>
      </p:pic>
      <p:sp>
        <p:nvSpPr>
          <p:cNvPr id="1280"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281"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282" name="PlaceHolder 3"/>
          <p:cNvSpPr>
            <a:spLocks noGrp="1"/>
          </p:cNvSpPr>
          <p:nvPr>
            <p:ph type="sldNum" idx="43"/>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4EAA-9ED5-489B-BA30-C6577DDEFC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83" name="PlaceHolder 4"/>
          <p:cNvSpPr>
            <a:spLocks noGrp="1"/>
          </p:cNvSpPr>
          <p:nvPr>
            <p:ph type="ftr" idx="44"/>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0" name="Picture 7" descr="DECC_CYAN_AW.jpg"/>
          <p:cNvPicPr/>
          <p:nvPr/>
        </p:nvPicPr>
        <p:blipFill>
          <a:blip r:embed="rId2"/>
          <a:stretch/>
        </p:blipFill>
        <p:spPr>
          <a:xfrm>
            <a:off x="573120" y="260280"/>
            <a:ext cx="1089000" cy="720720"/>
          </a:xfrm>
          <a:prstGeom prst="rect">
            <a:avLst/>
          </a:prstGeom>
          <a:ln w="0">
            <a:noFill/>
          </a:ln>
        </p:spPr>
      </p:pic>
      <p:sp>
        <p:nvSpPr>
          <p:cNvPr id="1321"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322"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323" name="PlaceHolder 3"/>
          <p:cNvSpPr>
            <a:spLocks noGrp="1"/>
          </p:cNvSpPr>
          <p:nvPr>
            <p:ph type="sldNum" idx="45"/>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413E-8A59-4B38-A4AA-AEA3A1CB329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24" name="PlaceHolder 4"/>
          <p:cNvSpPr>
            <a:spLocks noGrp="1"/>
          </p:cNvSpPr>
          <p:nvPr>
            <p:ph type="ftr" idx="46"/>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1" name="Picture 7" descr="DECC_CYAN_AW.jpg"/>
          <p:cNvPicPr/>
          <p:nvPr/>
        </p:nvPicPr>
        <p:blipFill>
          <a:blip r:embed="rId2"/>
          <a:stretch/>
        </p:blipFill>
        <p:spPr>
          <a:xfrm>
            <a:off x="573120" y="260280"/>
            <a:ext cx="1089000" cy="720720"/>
          </a:xfrm>
          <a:prstGeom prst="rect">
            <a:avLst/>
          </a:prstGeom>
          <a:ln w="0">
            <a:noFill/>
          </a:ln>
        </p:spPr>
      </p:pic>
      <p:sp>
        <p:nvSpPr>
          <p:cNvPr id="1362"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363"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364" name="PlaceHolder 3"/>
          <p:cNvSpPr>
            <a:spLocks noGrp="1"/>
          </p:cNvSpPr>
          <p:nvPr>
            <p:ph type="sldNum" idx="47"/>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5CE6-642F-4028-906D-F2267543FF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65" name="PlaceHolder 4"/>
          <p:cNvSpPr>
            <a:spLocks noGrp="1"/>
          </p:cNvSpPr>
          <p:nvPr>
            <p:ph type="ftr" idx="48"/>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2" name="Picture 7" descr="DECC_CYAN_AW.jpg"/>
          <p:cNvPicPr/>
          <p:nvPr/>
        </p:nvPicPr>
        <p:blipFill>
          <a:blip r:embed="rId2"/>
          <a:stretch/>
        </p:blipFill>
        <p:spPr>
          <a:xfrm>
            <a:off x="573120" y="260280"/>
            <a:ext cx="1089000" cy="720720"/>
          </a:xfrm>
          <a:prstGeom prst="rect">
            <a:avLst/>
          </a:prstGeom>
          <a:ln w="0">
            <a:noFill/>
          </a:ln>
        </p:spPr>
      </p:pic>
      <p:sp>
        <p:nvSpPr>
          <p:cNvPr id="1403"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404"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405" name="PlaceHolder 3"/>
          <p:cNvSpPr>
            <a:spLocks noGrp="1"/>
          </p:cNvSpPr>
          <p:nvPr>
            <p:ph type="sldNum" idx="49"/>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A86F-EE24-4576-A797-840EC1BB74C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406" name="PlaceHolder 4"/>
          <p:cNvSpPr>
            <a:spLocks noGrp="1"/>
          </p:cNvSpPr>
          <p:nvPr>
            <p:ph type="ftr" idx="50"/>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3" name="Picture 7" descr="DECC_CYAN_AW.jpg"/>
          <p:cNvPicPr/>
          <p:nvPr/>
        </p:nvPicPr>
        <p:blipFill>
          <a:blip r:embed="rId2"/>
          <a:stretch/>
        </p:blipFill>
        <p:spPr>
          <a:xfrm>
            <a:off x="573120" y="260280"/>
            <a:ext cx="1089000" cy="720720"/>
          </a:xfrm>
          <a:prstGeom prst="rect">
            <a:avLst/>
          </a:prstGeom>
          <a:ln w="0">
            <a:noFill/>
          </a:ln>
        </p:spPr>
      </p:pic>
      <p:sp>
        <p:nvSpPr>
          <p:cNvPr id="1444"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445"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446" name="PlaceHolder 3"/>
          <p:cNvSpPr>
            <a:spLocks noGrp="1"/>
          </p:cNvSpPr>
          <p:nvPr>
            <p:ph type="sldNum" idx="51"/>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0D1B-4AA2-4C8A-9C30-0BB0F5FA989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447" name="PlaceHolder 4"/>
          <p:cNvSpPr>
            <a:spLocks noGrp="1"/>
          </p:cNvSpPr>
          <p:nvPr>
            <p:ph type="ftr" idx="52"/>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Rectangle 7"/>
          <p:cNvSpPr/>
          <p:nvPr/>
        </p:nvSpPr>
        <p:spPr>
          <a:xfrm>
            <a:off x="-12600" y="1212840"/>
            <a:ext cx="9180360" cy="5670720"/>
          </a:xfrm>
          <a:prstGeom prst="rect">
            <a:avLst/>
          </a:prstGeom>
          <a:solidFill>
            <a:srgbClr val="00ae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5" name="Picture 8" descr="DECC_CYAN_AW.jpg"/>
          <p:cNvPicPr/>
          <p:nvPr/>
        </p:nvPicPr>
        <p:blipFill>
          <a:blip r:embed="rId2"/>
          <a:stretch/>
        </p:blipFill>
        <p:spPr>
          <a:xfrm>
            <a:off x="573120" y="260280"/>
            <a:ext cx="1089000" cy="720720"/>
          </a:xfrm>
          <a:prstGeom prst="rect">
            <a:avLst/>
          </a:prstGeom>
          <a:ln w="0">
            <a:noFill/>
          </a:ln>
        </p:spPr>
      </p:pic>
      <p:sp>
        <p:nvSpPr>
          <p:cNvPr id="1486"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487"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488" name="PlaceHolder 3"/>
          <p:cNvSpPr>
            <a:spLocks noGrp="1"/>
          </p:cNvSpPr>
          <p:nvPr>
            <p:ph type="sldNum" idx="53"/>
          </p:nvPr>
        </p:nvSpPr>
        <p:spPr>
          <a:xfrm>
            <a:off x="0" y="6308640"/>
            <a:ext cx="9144000" cy="549360"/>
          </a:xfrm>
          <a:prstGeom prst="rect">
            <a:avLst/>
          </a:prstGeom>
          <a:no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7E55-CD79-4B15-B724-733F45D114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489" name="PlaceHolder 4"/>
          <p:cNvSpPr>
            <a:spLocks noGrp="1"/>
          </p:cNvSpPr>
          <p:nvPr>
            <p:ph type="ftr" idx="54"/>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7174-4669-4145-B132-A26AE27F29C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527"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528" name="PlaceHolder 3"/>
          <p:cNvSpPr>
            <a:spLocks noGrp="1"/>
          </p:cNvSpPr>
          <p:nvPr>
            <p:ph type="sldNum" idx="55"/>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B7EA-850C-4AC2-8ACC-69E8D6F448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529" name="PlaceHolder 4"/>
          <p:cNvSpPr>
            <a:spLocks noGrp="1"/>
          </p:cNvSpPr>
          <p:nvPr>
            <p:ph type="ftr" idx="56"/>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7" descr="DECC-graphic.pdf"/>
          <p:cNvPicPr/>
          <p:nvPr/>
        </p:nvPicPr>
        <p:blipFill>
          <a:blip r:embed="rId2"/>
          <a:stretch/>
        </p:blipFill>
        <p:spPr>
          <a:xfrm>
            <a:off x="0" y="287280"/>
            <a:ext cx="9144000" cy="6462720"/>
          </a:xfrm>
          <a:prstGeom prst="rect">
            <a:avLst/>
          </a:prstGeom>
          <a:ln w="0">
            <a:noFill/>
          </a:ln>
        </p:spPr>
      </p:pic>
      <p:pic>
        <p:nvPicPr>
          <p:cNvPr id="1567" name="Picture 8" descr="DECC_CYAN_AW.jpg"/>
          <p:cNvPicPr/>
          <p:nvPr/>
        </p:nvPicPr>
        <p:blipFill>
          <a:blip r:embed="rId3"/>
          <a:stretch/>
        </p:blipFill>
        <p:spPr>
          <a:xfrm>
            <a:off x="573120" y="260280"/>
            <a:ext cx="1089000" cy="720720"/>
          </a:xfrm>
          <a:prstGeom prst="rect">
            <a:avLst/>
          </a:prstGeom>
          <a:ln w="0">
            <a:noFill/>
          </a:ln>
        </p:spPr>
      </p:pic>
      <p:sp>
        <p:nvSpPr>
          <p:cNvPr id="1568"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569"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6" name="Picture 7" descr="DECC-graphic.pdf"/>
          <p:cNvPicPr/>
          <p:nvPr/>
        </p:nvPicPr>
        <p:blipFill>
          <a:blip r:embed="rId2"/>
          <a:stretch/>
        </p:blipFill>
        <p:spPr>
          <a:xfrm>
            <a:off x="0" y="287280"/>
            <a:ext cx="9144000" cy="6462720"/>
          </a:xfrm>
          <a:prstGeom prst="rect">
            <a:avLst/>
          </a:prstGeom>
          <a:ln w="0">
            <a:noFill/>
          </a:ln>
        </p:spPr>
      </p:pic>
      <p:pic>
        <p:nvPicPr>
          <p:cNvPr id="1607" name="Picture 8" descr="DECC_CYAN_AW.jpg"/>
          <p:cNvPicPr/>
          <p:nvPr/>
        </p:nvPicPr>
        <p:blipFill>
          <a:blip r:embed="rId3"/>
          <a:stretch/>
        </p:blipFill>
        <p:spPr>
          <a:xfrm>
            <a:off x="573120" y="260280"/>
            <a:ext cx="1089000" cy="720720"/>
          </a:xfrm>
          <a:prstGeom prst="rect">
            <a:avLst/>
          </a:prstGeom>
          <a:ln w="0">
            <a:noFill/>
          </a:ln>
        </p:spPr>
      </p:pic>
      <p:sp>
        <p:nvSpPr>
          <p:cNvPr id="1608"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609"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6" name="Picture 7" descr="DECC_CYAN_AW.jpg"/>
          <p:cNvPicPr/>
          <p:nvPr/>
        </p:nvPicPr>
        <p:blipFill>
          <a:blip r:embed="rId2"/>
          <a:stretch/>
        </p:blipFill>
        <p:spPr>
          <a:xfrm>
            <a:off x="573120" y="260280"/>
            <a:ext cx="1089000" cy="720720"/>
          </a:xfrm>
          <a:prstGeom prst="rect">
            <a:avLst/>
          </a:prstGeom>
          <a:ln w="0">
            <a:noFill/>
          </a:ln>
        </p:spPr>
      </p:pic>
      <p:sp>
        <p:nvSpPr>
          <p:cNvPr id="1647"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648"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649" name="PlaceHolder 3"/>
          <p:cNvSpPr>
            <a:spLocks noGrp="1"/>
          </p:cNvSpPr>
          <p:nvPr>
            <p:ph type="sldNum" idx="57"/>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132E-989F-4774-ACA7-1C570A0F2E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650" name="PlaceHolder 4"/>
          <p:cNvSpPr>
            <a:spLocks noGrp="1"/>
          </p:cNvSpPr>
          <p:nvPr>
            <p:ph type="ftr" idx="58"/>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7" name="Picture 7" descr="DECC_CYAN_AW.jpg"/>
          <p:cNvPicPr/>
          <p:nvPr/>
        </p:nvPicPr>
        <p:blipFill>
          <a:blip r:embed="rId2"/>
          <a:stretch/>
        </p:blipFill>
        <p:spPr>
          <a:xfrm>
            <a:off x="573120" y="260280"/>
            <a:ext cx="1089000" cy="720720"/>
          </a:xfrm>
          <a:prstGeom prst="rect">
            <a:avLst/>
          </a:prstGeom>
          <a:ln w="0">
            <a:noFill/>
          </a:ln>
        </p:spPr>
      </p:pic>
      <p:sp>
        <p:nvSpPr>
          <p:cNvPr id="1688"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689"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690" name="PlaceHolder 3"/>
          <p:cNvSpPr>
            <a:spLocks noGrp="1"/>
          </p:cNvSpPr>
          <p:nvPr>
            <p:ph type="sldNum" idx="59"/>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BDAF-D468-4070-853A-8B2D53331E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691" name="PlaceHolder 4"/>
          <p:cNvSpPr>
            <a:spLocks noGrp="1"/>
          </p:cNvSpPr>
          <p:nvPr>
            <p:ph type="ftr" idx="60"/>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8" name="Picture 7" descr="DECC_CYAN_AW.jpg"/>
          <p:cNvPicPr/>
          <p:nvPr/>
        </p:nvPicPr>
        <p:blipFill>
          <a:blip r:embed="rId2"/>
          <a:stretch/>
        </p:blipFill>
        <p:spPr>
          <a:xfrm>
            <a:off x="573120" y="260280"/>
            <a:ext cx="1089000" cy="720720"/>
          </a:xfrm>
          <a:prstGeom prst="rect">
            <a:avLst/>
          </a:prstGeom>
          <a:ln w="0">
            <a:noFill/>
          </a:ln>
        </p:spPr>
      </p:pic>
      <p:sp>
        <p:nvSpPr>
          <p:cNvPr id="1729"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730"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731" name="PlaceHolder 3"/>
          <p:cNvSpPr>
            <a:spLocks noGrp="1"/>
          </p:cNvSpPr>
          <p:nvPr>
            <p:ph type="sldNum" idx="61"/>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B985-3B21-4105-A323-9FA4D19C7F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732" name="PlaceHolder 4"/>
          <p:cNvSpPr>
            <a:spLocks noGrp="1"/>
          </p:cNvSpPr>
          <p:nvPr>
            <p:ph type="ftr" idx="62"/>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9" name="Picture 7" descr="DECC_CYAN_AW.jpg"/>
          <p:cNvPicPr/>
          <p:nvPr/>
        </p:nvPicPr>
        <p:blipFill>
          <a:blip r:embed="rId2"/>
          <a:stretch/>
        </p:blipFill>
        <p:spPr>
          <a:xfrm>
            <a:off x="573120" y="260280"/>
            <a:ext cx="1089000" cy="720720"/>
          </a:xfrm>
          <a:prstGeom prst="rect">
            <a:avLst/>
          </a:prstGeom>
          <a:ln w="0">
            <a:noFill/>
          </a:ln>
        </p:spPr>
      </p:pic>
      <p:sp>
        <p:nvSpPr>
          <p:cNvPr id="1770"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771"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772" name="PlaceHolder 3"/>
          <p:cNvSpPr>
            <a:spLocks noGrp="1"/>
          </p:cNvSpPr>
          <p:nvPr>
            <p:ph type="sldNum" idx="63"/>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E7F3-DBD5-4F35-B1F0-72D7C23F20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773" name="PlaceHolder 4"/>
          <p:cNvSpPr>
            <a:spLocks noGrp="1"/>
          </p:cNvSpPr>
          <p:nvPr>
            <p:ph type="ftr" idx="64"/>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0" name="Picture 7" descr="DECC_CYAN_AW.jpg"/>
          <p:cNvPicPr/>
          <p:nvPr/>
        </p:nvPicPr>
        <p:blipFill>
          <a:blip r:embed="rId2"/>
          <a:stretch/>
        </p:blipFill>
        <p:spPr>
          <a:xfrm>
            <a:off x="573120" y="260280"/>
            <a:ext cx="1089000" cy="720720"/>
          </a:xfrm>
          <a:prstGeom prst="rect">
            <a:avLst/>
          </a:prstGeom>
          <a:ln w="0">
            <a:noFill/>
          </a:ln>
        </p:spPr>
      </p:pic>
      <p:sp>
        <p:nvSpPr>
          <p:cNvPr id="1811"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812"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813" name="PlaceHolder 3"/>
          <p:cNvSpPr>
            <a:spLocks noGrp="1"/>
          </p:cNvSpPr>
          <p:nvPr>
            <p:ph type="sldNum" idx="65"/>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87DB-43E3-4B99-9112-48E31FE04A5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814" name="PlaceHolder 4"/>
          <p:cNvSpPr>
            <a:spLocks noGrp="1"/>
          </p:cNvSpPr>
          <p:nvPr>
            <p:ph type="ftr" idx="66"/>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1" name="Picture 7" descr="DECC_CYAN_AW.jpg"/>
          <p:cNvPicPr/>
          <p:nvPr/>
        </p:nvPicPr>
        <p:blipFill>
          <a:blip r:embed="rId2"/>
          <a:stretch/>
        </p:blipFill>
        <p:spPr>
          <a:xfrm>
            <a:off x="573120" y="260280"/>
            <a:ext cx="1089000" cy="720720"/>
          </a:xfrm>
          <a:prstGeom prst="rect">
            <a:avLst/>
          </a:prstGeom>
          <a:ln w="0">
            <a:noFill/>
          </a:ln>
        </p:spPr>
      </p:pic>
      <p:sp>
        <p:nvSpPr>
          <p:cNvPr id="1852"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853"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854" name="PlaceHolder 3"/>
          <p:cNvSpPr>
            <a:spLocks noGrp="1"/>
          </p:cNvSpPr>
          <p:nvPr>
            <p:ph type="sldNum" idx="67"/>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F121-9546-43B7-A796-06B0C4BE2B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855" name="PlaceHolder 4"/>
          <p:cNvSpPr>
            <a:spLocks noGrp="1"/>
          </p:cNvSpPr>
          <p:nvPr>
            <p:ph type="ftr" idx="68"/>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Rectangle 7"/>
          <p:cNvSpPr/>
          <p:nvPr/>
        </p:nvSpPr>
        <p:spPr>
          <a:xfrm>
            <a:off x="-12600" y="1212840"/>
            <a:ext cx="9180360" cy="5670720"/>
          </a:xfrm>
          <a:prstGeom prst="rect">
            <a:avLst/>
          </a:prstGeom>
          <a:solidFill>
            <a:srgbClr val="00ae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93" name="Picture 8" descr="DECC_CYAN_AW.jpg"/>
          <p:cNvPicPr/>
          <p:nvPr/>
        </p:nvPicPr>
        <p:blipFill>
          <a:blip r:embed="rId2"/>
          <a:stretch/>
        </p:blipFill>
        <p:spPr>
          <a:xfrm>
            <a:off x="573120" y="260280"/>
            <a:ext cx="1089000" cy="720720"/>
          </a:xfrm>
          <a:prstGeom prst="rect">
            <a:avLst/>
          </a:prstGeom>
          <a:ln w="0">
            <a:noFill/>
          </a:ln>
        </p:spPr>
      </p:pic>
      <p:sp>
        <p:nvSpPr>
          <p:cNvPr id="1894"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895"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896" name="PlaceHolder 3"/>
          <p:cNvSpPr>
            <a:spLocks noGrp="1"/>
          </p:cNvSpPr>
          <p:nvPr>
            <p:ph type="sldNum" idx="69"/>
          </p:nvPr>
        </p:nvSpPr>
        <p:spPr>
          <a:xfrm>
            <a:off x="0" y="6308640"/>
            <a:ext cx="9144000" cy="549360"/>
          </a:xfrm>
          <a:prstGeom prst="rect">
            <a:avLst/>
          </a:prstGeom>
          <a:no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A530-5353-412C-96C4-5A559C2A05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897" name="PlaceHolder 4"/>
          <p:cNvSpPr>
            <a:spLocks noGrp="1"/>
          </p:cNvSpPr>
          <p:nvPr>
            <p:ph type="ftr" idx="70"/>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935"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936" name="PlaceHolder 3"/>
          <p:cNvSpPr>
            <a:spLocks noGrp="1"/>
          </p:cNvSpPr>
          <p:nvPr>
            <p:ph type="sldNum" idx="71"/>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539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319B-DF14-4BB3-871B-4E2B5A7CDCE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937" name="PlaceHolder 4"/>
          <p:cNvSpPr>
            <a:spLocks noGrp="1"/>
          </p:cNvSpPr>
          <p:nvPr>
            <p:ph type="ftr" idx="72"/>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4" name="Picture 7" descr="DECC-graphic.pdf"/>
          <p:cNvPicPr/>
          <p:nvPr/>
        </p:nvPicPr>
        <p:blipFill>
          <a:blip r:embed="rId2"/>
          <a:stretch/>
        </p:blipFill>
        <p:spPr>
          <a:xfrm>
            <a:off x="0" y="287280"/>
            <a:ext cx="9144000" cy="6462720"/>
          </a:xfrm>
          <a:prstGeom prst="rect">
            <a:avLst/>
          </a:prstGeom>
          <a:ln w="0">
            <a:noFill/>
          </a:ln>
        </p:spPr>
      </p:pic>
      <p:pic>
        <p:nvPicPr>
          <p:cNvPr id="1975" name="Picture 8" descr="DECC_CYAN_AW.jpg"/>
          <p:cNvPicPr/>
          <p:nvPr/>
        </p:nvPicPr>
        <p:blipFill>
          <a:blip r:embed="rId3"/>
          <a:stretch/>
        </p:blipFill>
        <p:spPr>
          <a:xfrm>
            <a:off x="573120" y="260280"/>
            <a:ext cx="1089000" cy="720720"/>
          </a:xfrm>
          <a:prstGeom prst="rect">
            <a:avLst/>
          </a:prstGeom>
          <a:ln w="0">
            <a:noFill/>
          </a:ln>
        </p:spPr>
      </p:pic>
      <p:sp>
        <p:nvSpPr>
          <p:cNvPr id="1976"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977"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2009-EF2C-4D22-99DB-5B65249A457D}"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05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5C0C-B6C7-47D5-8F91-326583579D30}"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5"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62BD-CA32-43A6-8FBE-73E1B0A9E90F}"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096"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7"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459A-31E3-4635-9A13-C9FC139CF41B}"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6"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0B6B-DA4B-4F8B-A21F-A59B7507CF8E}"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137"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8"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BB5E-699F-43FF-99AD-C7E08690CC77}"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7"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6339-F4CB-4FC9-BD34-B8F5B26C60B3}"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178"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9"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236E-8378-47DE-B8C2-C19641380AD3}"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8"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D321-E177-4979-A436-D8B2F105FD6C}"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219"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0"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54B2-6556-4B20-91F2-9858492DB0C6}"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59"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A851-3ECC-4DA9-A645-0F5D7D287A36}"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260"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1"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4128-280B-4A02-BCD4-56AEA3305CC7}"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00"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733E-1F6A-432A-BA51-3D5077ACA34D}"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301"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2"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136C-D1BE-45BA-820B-5A93533C36F3}"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186"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187" name="PlaceHolder 3"/>
          <p:cNvSpPr>
            <a:spLocks noGrp="1"/>
          </p:cNvSpPr>
          <p:nvPr>
            <p:ph type="sldNum" idx="4"/>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marL="539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78D5-69F3-4695-8BD2-74B90D4583C0}" type="slidenum">
              <a:rPr b="0" lang="en-US" sz="1200" spc="-1" strike="noStrike">
                <a:solidFill>
                  <a:srgbClr val="ffffff"/>
                </a:solidFill>
                <a:latin typeface="Arial"/>
              </a:rPr>
              <a:t>&lt;number&gt;</a:t>
            </a:fld>
            <a:r>
              <a:rPr b="0" lang="en-US" sz="1200" spc="-1" strike="noStrike">
                <a:solidFill>
                  <a:srgbClr val="ffffff"/>
                </a:solidFill>
                <a:latin typeface="Arial"/>
              </a:rPr>
              <a:t> </a:t>
            </a:r>
            <a:endParaRPr b="0" lang="en-US" sz="1200" spc="-1" strike="noStrike">
              <a:solidFill>
                <a:srgbClr val="000000"/>
              </a:solidFill>
              <a:latin typeface="Times New Roman"/>
            </a:endParaRPr>
          </a:p>
        </p:txBody>
      </p:sp>
      <p:sp>
        <p:nvSpPr>
          <p:cNvPr id="188" name="PlaceHolder 4"/>
          <p:cNvSpPr>
            <a:spLocks noGrp="1"/>
          </p:cNvSpPr>
          <p:nvPr>
            <p:ph type="ftr" idx="5"/>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1"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3838-355B-44F0-BFA0-499D82547762}"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342"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3"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3D62-1C18-4323-A4D0-7483390B25EF}"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82"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3396-2A55-414D-9B9E-AA069E1C2E5A}"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383"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4"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0CB0-CD5D-45A8-A764-E42BBE94DFF1}"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3"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85C4-5A56-4572-8651-1D18324BD71C}"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424"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5"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D6DE-5AF4-4AEE-B359-34D6777C1D46}"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64"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817B-CF36-4792-8CC0-B9161A111462}"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465"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6"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0848-8860-482C-85A1-7F0C61AF049F}"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3" name="Picture 6" descr=""/>
          <p:cNvPicPr/>
          <p:nvPr/>
        </p:nvPicPr>
        <p:blipFill>
          <a:blip r:embed="rId2"/>
          <a:stretch/>
        </p:blipFill>
        <p:spPr>
          <a:xfrm>
            <a:off x="0" y="3067200"/>
            <a:ext cx="8899560" cy="3790800"/>
          </a:xfrm>
          <a:prstGeom prst="rect">
            <a:avLst/>
          </a:prstGeom>
          <a:ln w="0">
            <a:noFill/>
          </a:ln>
        </p:spPr>
      </p:pic>
      <p:pic>
        <p:nvPicPr>
          <p:cNvPr id="2504" name="Picture 7" descr="word-header-citizens-advice"/>
          <p:cNvPicPr/>
          <p:nvPr/>
        </p:nvPicPr>
        <p:blipFill>
          <a:blip r:embed="rId3"/>
          <a:srcRect l="63439" t="0" r="0" b="0"/>
          <a:stretch/>
        </p:blipFill>
        <p:spPr>
          <a:xfrm>
            <a:off x="360360" y="0"/>
            <a:ext cx="2763720" cy="1409760"/>
          </a:xfrm>
          <a:prstGeom prst="rect">
            <a:avLst/>
          </a:prstGeom>
          <a:ln w="0">
            <a:noFill/>
          </a:ln>
        </p:spPr>
      </p:pic>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7"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620A-1B58-41F4-A575-0E47D079DB76}"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2508"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9"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675D-35C5-4D73-9E27-E830C59C1720}"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4"/>
    <p:sldLayoutId id="2147484469" r:id="rId5"/>
    <p:sldLayoutId id="2147484470" r:id="rId6"/>
    <p:sldLayoutId id="2147484471" r:id="rId7"/>
    <p:sldLayoutId id="2147484472" r:id="rId8"/>
    <p:sldLayoutId id="2147484473" r:id="rId9"/>
    <p:sldLayoutId id="2147484474" r:id="rId10"/>
    <p:sldLayoutId id="2147484475" r:id="rId11"/>
    <p:sldLayoutId id="2147484476" r:id="rId12"/>
    <p:sldLayoutId id="2147484477" r:id="rId13"/>
    <p:sldLayoutId id="2147484478" r:id="rId14"/>
    <p:sldLayoutId id="2147484479"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226"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227" name="PlaceHolder 3"/>
          <p:cNvSpPr>
            <a:spLocks noGrp="1"/>
          </p:cNvSpPr>
          <p:nvPr>
            <p:ph type="sldNum" idx="6"/>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marL="539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DBFC-D483-4770-9293-38860DC2BB6D}" type="slidenum">
              <a:rPr b="0" lang="en-US" sz="1200" spc="-1" strike="noStrike">
                <a:solidFill>
                  <a:srgbClr val="ffffff"/>
                </a:solidFill>
                <a:latin typeface="Arial"/>
              </a:rPr>
              <a:t>&lt;number&gt;</a:t>
            </a:fld>
            <a:r>
              <a:rPr b="0" lang="en-US" sz="1200" spc="-1" strike="noStrike">
                <a:solidFill>
                  <a:srgbClr val="ffffff"/>
                </a:solidFill>
                <a:latin typeface="Arial"/>
              </a:rPr>
              <a:t> </a:t>
            </a:r>
            <a:endParaRPr b="0" lang="en-US" sz="1200" spc="-1" strike="noStrike">
              <a:solidFill>
                <a:srgbClr val="000000"/>
              </a:solidFill>
              <a:latin typeface="Times New Roman"/>
            </a:endParaRPr>
          </a:p>
        </p:txBody>
      </p:sp>
      <p:sp>
        <p:nvSpPr>
          <p:cNvPr id="228" name="PlaceHolder 4"/>
          <p:cNvSpPr>
            <a:spLocks noGrp="1"/>
          </p:cNvSpPr>
          <p:nvPr>
            <p:ph type="ftr" idx="7"/>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57280" y="274320"/>
            <a:ext cx="802944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ef"/>
                </a:solidFill>
                <a:latin typeface="Arial"/>
              </a:rPr>
              <a:t>Click to edit the title text format</a:t>
            </a:r>
            <a:endParaRPr b="0" lang="en-US" sz="3600" spc="-1" strike="noStrike">
              <a:solidFill>
                <a:srgbClr val="00aeef"/>
              </a:solidFill>
              <a:latin typeface="Arial"/>
            </a:endParaRPr>
          </a:p>
        </p:txBody>
      </p:sp>
      <p:sp>
        <p:nvSpPr>
          <p:cNvPr id="266" name="PlaceHolder 2"/>
          <p:cNvSpPr>
            <a:spLocks noGrp="1"/>
          </p:cNvSpPr>
          <p:nvPr>
            <p:ph type="body"/>
          </p:nvPr>
        </p:nvSpPr>
        <p:spPr>
          <a:xfrm>
            <a:off x="557280" y="1600200"/>
            <a:ext cx="8029440" cy="4525920"/>
          </a:xfrm>
          <a:prstGeom prst="rect">
            <a:avLst/>
          </a:prstGeom>
          <a:noFill/>
          <a:ln w="0">
            <a:noFill/>
          </a:ln>
        </p:spPr>
        <p:txBody>
          <a:bodyPr lIns="0" rIns="0" tIns="0" bIns="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Click to edit the outline text format</a:t>
            </a:r>
            <a:endParaRPr b="0" lang="en-US" sz="2000" spc="-1" strike="noStrike">
              <a:solidFill>
                <a:srgbClr val="00aeef"/>
              </a:solidFill>
              <a:latin typeface="Arial"/>
            </a:endParaRPr>
          </a:p>
          <a:p>
            <a:pPr lvl="1">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cond Outline Level</a:t>
            </a:r>
            <a:endParaRPr b="0" lang="en-US" sz="2000" spc="-1" strike="noStrike">
              <a:solidFill>
                <a:srgbClr val="00aeef"/>
              </a:solidFill>
              <a:latin typeface="Arial"/>
            </a:endParaRPr>
          </a:p>
          <a:p>
            <a:pPr lvl="2" marL="216000" indent="-21600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Third Outline Level</a:t>
            </a:r>
            <a:endParaRPr b="0" lang="en-US" sz="2000" spc="-1" strike="noStrike">
              <a:solidFill>
                <a:srgbClr val="00aeef"/>
              </a:solidFill>
              <a:latin typeface="Arial"/>
            </a:endParaRPr>
          </a:p>
          <a:p>
            <a:pPr lvl="3" marL="898560" indent="-28728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ourth Outline Level</a:t>
            </a:r>
            <a:endParaRPr b="0" lang="en-US" sz="2000" spc="-1" strike="noStrike">
              <a:solidFill>
                <a:srgbClr val="00aeef"/>
              </a:solidFill>
              <a:latin typeface="Arial"/>
            </a:endParaRPr>
          </a:p>
          <a:p>
            <a:pPr lvl="4"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Fifth Outline Level</a:t>
            </a:r>
            <a:endParaRPr b="0" lang="en-US" sz="2000" spc="-1" strike="noStrike">
              <a:solidFill>
                <a:srgbClr val="00aeef"/>
              </a:solidFill>
              <a:latin typeface="Arial"/>
            </a:endParaRPr>
          </a:p>
          <a:p>
            <a:pPr lvl="5"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ixth Outline Level</a:t>
            </a:r>
            <a:endParaRPr b="0" lang="en-US" sz="2000" spc="-1" strike="noStrike">
              <a:solidFill>
                <a:srgbClr val="00aeef"/>
              </a:solidFill>
              <a:latin typeface="Arial"/>
            </a:endParaRPr>
          </a:p>
          <a:p>
            <a:pPr lvl="6" marL="898560" indent="-287280">
              <a:spcBef>
                <a:spcPts val="1199"/>
              </a:spcBef>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ef"/>
                </a:solidFill>
                <a:latin typeface="Arial"/>
              </a:rPr>
              <a:t>Seventh Outline Level</a:t>
            </a:r>
            <a:endParaRPr b="0" lang="en-US" sz="2000" spc="-1" strike="noStrike">
              <a:solidFill>
                <a:srgbClr val="00aeef"/>
              </a:solidFill>
              <a:latin typeface="Arial"/>
            </a:endParaRPr>
          </a:p>
        </p:txBody>
      </p:sp>
      <p:sp>
        <p:nvSpPr>
          <p:cNvPr id="267" name="PlaceHolder 3"/>
          <p:cNvSpPr>
            <a:spLocks noGrp="1"/>
          </p:cNvSpPr>
          <p:nvPr>
            <p:ph type="sldNum" idx="8"/>
          </p:nvPr>
        </p:nvSpPr>
        <p:spPr>
          <a:xfrm>
            <a:off x="0" y="6308640"/>
            <a:ext cx="9144000" cy="549360"/>
          </a:xfrm>
          <a:prstGeom prst="rect">
            <a:avLst/>
          </a:prstGeom>
          <a:solidFill>
            <a:srgbClr val="00aeef"/>
          </a:solidFill>
          <a:ln w="0">
            <a:noFill/>
          </a:ln>
        </p:spPr>
        <p:txBody>
          <a:bodyPr lIns="0" rIns="90000" tIns="0" bIns="0" anchor="ctr">
            <a:noAutofit/>
          </a:bodyPr>
          <a:lstStyle>
            <a:lvl1pPr marL="539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marL="539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8646-B1C4-4A98-A860-0013DB9A5B08}" type="slidenum">
              <a:rPr b="0" lang="en-US" sz="1200" spc="-1" strike="noStrike">
                <a:solidFill>
                  <a:srgbClr val="ffffff"/>
                </a:solidFill>
                <a:latin typeface="Arial"/>
              </a:rPr>
              <a:t>&lt;number&gt;</a:t>
            </a:fld>
            <a:r>
              <a:rPr b="0" lang="en-US" sz="1200" spc="-1" strike="noStrike">
                <a:solidFill>
                  <a:srgbClr val="ffffff"/>
                </a:solidFill>
                <a:latin typeface="Arial"/>
              </a:rPr>
              <a:t> </a:t>
            </a:r>
            <a:endParaRPr b="0" lang="en-US" sz="1200" spc="-1" strike="noStrike">
              <a:solidFill>
                <a:srgbClr val="000000"/>
              </a:solidFill>
              <a:latin typeface="Times New Roman"/>
            </a:endParaRPr>
          </a:p>
        </p:txBody>
      </p:sp>
      <p:sp>
        <p:nvSpPr>
          <p:cNvPr id="268" name="PlaceHolder 4"/>
          <p:cNvSpPr>
            <a:spLocks noGrp="1"/>
          </p:cNvSpPr>
          <p:nvPr>
            <p:ph type="ftr" idx="9"/>
          </p:nvPr>
        </p:nvSpPr>
        <p:spPr>
          <a:xfrm>
            <a:off x="899640" y="6308640"/>
            <a:ext cx="7704360" cy="54936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 title - edit in Header and Foot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714F5-FDC7-4148-AE61-3CBA09ED2870}" type="datetime">
              <a:rPr b="0" lang="en-US" sz="1200" spc="-1" strike="noStrike">
                <a:solidFill>
                  <a:srgbClr val="898989"/>
                </a:solidFill>
                <a:latin typeface="Arial"/>
                <a:ea typeface="ＭＳ Ｐゴシック"/>
              </a:rPr>
              <a:t>07/30/26</a:t>
            </a:fld>
            <a:endParaRPr b="0" lang="en-US" sz="1200" spc="-1" strike="noStrike">
              <a:solidFill>
                <a:srgbClr val="000000"/>
              </a:solidFill>
              <a:latin typeface="Times New Roman"/>
            </a:endParaRPr>
          </a:p>
        </p:txBody>
      </p:sp>
      <p:sp>
        <p:nvSpPr>
          <p:cNvPr id="30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0E35D-183D-4910-948A-F930E665EC63}" type="slidenum">
              <a:rPr b="0" lang="en-US" sz="1200" spc="-1" strike="noStrike">
                <a:solidFill>
                  <a:srgbClr val="898989"/>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google.co.uk/url?sa=i&amp;rct=j&amp;q=&amp;esrc=s&amp;frm=1&amp;source=images&amp;cd=&amp;cad=rja&amp;uact=8&amp;ved=0CAcQjRw&amp;url=http%3A%2F%2Fcmscoms.com%2F%3Fpage_id%3D167&amp;ei=KLJYVPK-D9LhsATR5YHACQ&amp;bvm=bv.78677474,d.ZGU&amp;psig=AFQjCNH-DwfyvndfYCbUkmigqyeAieCR6Q&amp;ust=1415185312104097"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6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title"/>
          </p:nvPr>
        </p:nvSpPr>
        <p:spPr>
          <a:xfrm>
            <a:off x="557280" y="2808360"/>
            <a:ext cx="7634160" cy="208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CO Steering group </a:t>
            </a:r>
            <a:endParaRPr b="0" lang="en-US" sz="4500" spc="-1" strike="noStrike">
              <a:solidFill>
                <a:srgbClr val="00aeef"/>
              </a:solidFill>
              <a:latin typeface="Arial"/>
            </a:endParaRPr>
          </a:p>
        </p:txBody>
      </p:sp>
      <p:sp>
        <p:nvSpPr>
          <p:cNvPr id="2554" name="PlaceHolder 2"/>
          <p:cNvSpPr>
            <a:spLocks noGrp="1"/>
          </p:cNvSpPr>
          <p:nvPr>
            <p:ph type="subTitle"/>
          </p:nvPr>
        </p:nvSpPr>
        <p:spPr>
          <a:xfrm>
            <a:off x="557280" y="5445000"/>
            <a:ext cx="7634160" cy="914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30 January 2015</a:t>
            </a:r>
            <a:endParaRPr b="0" lang="en-US" sz="2000" spc="-1" strike="noStrike">
              <a:solidFill>
                <a:srgbClr val="00aee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TextBox 1"/>
          <p:cNvSpPr/>
          <p:nvPr/>
        </p:nvSpPr>
        <p:spPr>
          <a:xfrm>
            <a:off x="4214880" y="2357280"/>
            <a:ext cx="4357800" cy="657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4040"/>
                </a:solidFill>
                <a:latin typeface="Verdana"/>
              </a:rPr>
              <a:t>DECC Steering Group</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Verdana"/>
              </a:rPr>
              <a:t>ECO Update</a:t>
            </a:r>
            <a:endParaRPr b="0" lang="en-US" sz="1200" spc="-1" strike="noStrike">
              <a:solidFill>
                <a:srgbClr val="000000"/>
              </a:solidFill>
              <a:latin typeface="Calibri"/>
            </a:endParaRPr>
          </a:p>
        </p:txBody>
      </p:sp>
      <p:sp>
        <p:nvSpPr>
          <p:cNvPr id="2594" name="TextBox 2"/>
          <p:cNvSpPr/>
          <p:nvPr/>
        </p:nvSpPr>
        <p:spPr>
          <a:xfrm>
            <a:off x="5072040" y="3656160"/>
            <a:ext cx="3500640" cy="4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404040"/>
                </a:solidFill>
                <a:latin typeface="Verdana"/>
              </a:rPr>
              <a:t>David Fletcher, Hannah Clapham</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040"/>
                </a:solidFill>
                <a:latin typeface="Verdana"/>
              </a:rPr>
              <a:t>30/01/1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B320-FB7F-4EC0-9B83-A6629F192D63}"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596" name="TextBox 5"/>
          <p:cNvSpPr/>
          <p:nvPr/>
        </p:nvSpPr>
        <p:spPr>
          <a:xfrm>
            <a:off x="1962000" y="1311120"/>
            <a:ext cx="52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pplier progress towards obligations</a:t>
            </a:r>
            <a:endParaRPr b="0" lang="en-US" sz="2400" spc="-1" strike="noStrike">
              <a:solidFill>
                <a:srgbClr val="000000"/>
              </a:solidFill>
              <a:latin typeface="Calibri"/>
            </a:endParaRPr>
          </a:p>
        </p:txBody>
      </p:sp>
      <p:pic>
        <p:nvPicPr>
          <p:cNvPr id="2597" name="Chart 6" descr=""/>
          <p:cNvPicPr/>
          <p:nvPr/>
        </p:nvPicPr>
        <p:blipFill>
          <a:blip r:embed="rId1"/>
          <a:stretch/>
        </p:blipFill>
        <p:spPr>
          <a:xfrm>
            <a:off x="176040" y="1743120"/>
            <a:ext cx="8967960" cy="3414600"/>
          </a:xfrm>
          <a:prstGeom prst="rect">
            <a:avLst/>
          </a:prstGeom>
          <a:ln w="0">
            <a:noFill/>
          </a:ln>
        </p:spPr>
      </p:pic>
      <p:sp>
        <p:nvSpPr>
          <p:cNvPr id="2598" name="TextBox 4"/>
          <p:cNvSpPr/>
          <p:nvPr/>
        </p:nvSpPr>
        <p:spPr>
          <a:xfrm>
            <a:off x="142920" y="4782960"/>
            <a:ext cx="8893080" cy="2040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xcess actions carried over from CERT and CESP are </a:t>
            </a:r>
            <a:r>
              <a:rPr b="1" lang="en-GB" sz="1600" spc="-1" strike="noStrike">
                <a:solidFill>
                  <a:srgbClr val="000000"/>
                </a:solidFill>
                <a:latin typeface="Calibri"/>
              </a:rPr>
              <a:t>not</a:t>
            </a:r>
            <a:r>
              <a:rPr b="0" lang="en-GB" sz="1600" spc="-1" strike="noStrike">
                <a:solidFill>
                  <a:srgbClr val="000000"/>
                </a:solidFill>
                <a:latin typeface="Calibri"/>
              </a:rPr>
              <a:t> shown in this graph. </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stimated levelisation uplift has been calculated as set out in the amendment Order using the relevant CERO measures installed up to 31 March 2014. This calculation assumes that all of these measures will be approved (including hard-to-treat cavity wall insulation).</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vings not required to meet obligations under ECO1 may be able to be credited as surplus actions under ECO2. </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ate a total of around 15,000 measures have had their approval refused or revoked by Ofgem, amounting to 1.5% of all notified measur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title"/>
          </p:nvPr>
        </p:nvSpPr>
        <p:spPr>
          <a:xfrm>
            <a:off x="428760" y="1499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TTC Update</a:t>
            </a:r>
            <a:endParaRPr b="0" lang="en-US" sz="4400" spc="-1" strike="noStrike">
              <a:solidFill>
                <a:srgbClr val="000000"/>
              </a:solidFill>
              <a:latin typeface="Calibri"/>
            </a:endParaRPr>
          </a:p>
        </p:txBody>
      </p:sp>
      <p:sp>
        <p:nvSpPr>
          <p:cNvPr id="2600" name=""/>
          <p:cNvSpPr txBox="1"/>
          <p:nvPr/>
        </p:nvSpPr>
        <p:spPr>
          <a:xfrm>
            <a:off x="428760" y="2785680"/>
            <a:ext cx="8229600" cy="3382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C review has now been complet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ults of the review were communicated to suppliers in December 201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CO Operations team are currently processing measu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measures that fail, suppliers will shortly receive notice of decision to refuse or revoke sav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intend to publish a report in February showing aggregated resul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CE70-E12F-4B77-8834-BF1DEEABB360}"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PlaceHolder 1"/>
          <p:cNvSpPr>
            <a:spLocks noGrp="1"/>
          </p:cNvSpPr>
          <p:nvPr>
            <p:ph type="title"/>
          </p:nvPr>
        </p:nvSpPr>
        <p:spPr>
          <a:xfrm>
            <a:off x="500040" y="14284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cess Actions</a:t>
            </a:r>
            <a:endParaRPr b="0" lang="en-US" sz="4400" spc="-1" strike="noStrike">
              <a:solidFill>
                <a:srgbClr val="000000"/>
              </a:solidFill>
              <a:latin typeface="Calibri"/>
            </a:endParaRPr>
          </a:p>
        </p:txBody>
      </p:sp>
      <p:sp>
        <p:nvSpPr>
          <p:cNvPr id="26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0CA6-228E-4A70-8A26-C32C3F3E9B00}"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604" name="TextBox 1"/>
          <p:cNvSpPr/>
          <p:nvPr/>
        </p:nvSpPr>
        <p:spPr>
          <a:xfrm>
            <a:off x="900000" y="2276640"/>
            <a:ext cx="7344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are on track to report excess actions in the February compliance repor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expected volume of excess actions is below*</a:t>
            </a:r>
            <a:endParaRPr b="0" lang="en-US" sz="2000" spc="-1" strike="noStrike">
              <a:solidFill>
                <a:srgbClr val="000000"/>
              </a:solidFill>
              <a:latin typeface="Calibri"/>
            </a:endParaRPr>
          </a:p>
        </p:txBody>
      </p:sp>
      <p:graphicFrame>
        <p:nvGraphicFramePr>
          <p:cNvPr id="2605" name=""/>
          <p:cNvGraphicFramePr/>
          <p:nvPr/>
        </p:nvGraphicFramePr>
        <p:xfrm>
          <a:off x="901800" y="3716280"/>
          <a:ext cx="7345440" cy="1854360"/>
        </p:xfrm>
        <a:graphic>
          <a:graphicData uri="http://schemas.openxmlformats.org/drawingml/2006/table">
            <a:tbl>
              <a:tblPr/>
              <a:tblGrid>
                <a:gridCol w="3671640"/>
                <a:gridCol w="3673800"/>
              </a:tblGrid>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T CO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ER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SC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SCO Rura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HCR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606" name="TextBox 5"/>
          <p:cNvSpPr/>
          <p:nvPr/>
        </p:nvSpPr>
        <p:spPr>
          <a:xfrm>
            <a:off x="932040" y="5554800"/>
            <a:ext cx="734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figures are subject to our determinatio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title"/>
          </p:nvPr>
        </p:nvSpPr>
        <p:spPr>
          <a:xfrm>
            <a:off x="108000" y="1428480"/>
            <a:ext cx="8856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milestones in the build up to closedown</a:t>
            </a:r>
            <a:endParaRPr b="0" lang="en-US" sz="3600" spc="-1" strike="noStrike">
              <a:solidFill>
                <a:srgbClr val="000000"/>
              </a:solidFill>
              <a:latin typeface="Calibri"/>
            </a:endParaRPr>
          </a:p>
        </p:txBody>
      </p:sp>
      <p:sp>
        <p:nvSpPr>
          <p:cNvPr id="260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E22C-2D1C-454E-884F-D775687211F3}"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graphicFrame>
        <p:nvGraphicFramePr>
          <p:cNvPr id="2609" name=""/>
          <p:cNvGraphicFramePr/>
          <p:nvPr/>
        </p:nvGraphicFramePr>
        <p:xfrm>
          <a:off x="1547640" y="2205000"/>
          <a:ext cx="6096240" cy="4006800"/>
        </p:xfrm>
        <a:graphic>
          <a:graphicData uri="http://schemas.openxmlformats.org/drawingml/2006/table">
            <a:tbl>
              <a:tblPr/>
              <a:tblGrid>
                <a:gridCol w="1248120"/>
                <a:gridCol w="4848120"/>
              </a:tblGrid>
              <a:tr h="39204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ilest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415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1/01/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rim measures notified</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etter to suppliers on outstanding issues at closedown</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1/03/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ast installation date for ECO1 measures</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397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04/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ast notification of ECO1 measures by suppliers</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04/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ast notification of ECO1 transfers or re-elections by suppliers</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5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1/05/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ast date for submission of extension requests</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1/05/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ast date for submission of TM reports</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1/05/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irst ECO 2 notification deadline</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97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3/06/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ast date for suppliers to upload measure corrections/submit evidence</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06/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uplicates resolved</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5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01/07/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evelisation submissions</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l-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rovisional final decision to approve/reject measures</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97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l-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joining area determination</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09/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nal determination on ECO1</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2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09/2015</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inal report on ECO 1</a:t>
                      </a:r>
                      <a:endParaRPr b="0" lang="en-US" sz="10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title"/>
          </p:nvPr>
        </p:nvSpPr>
        <p:spPr>
          <a:xfrm>
            <a:off x="900000" y="1125000"/>
            <a:ext cx="9164880" cy="57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CO 2 consultation/guidance timelines</a:t>
            </a:r>
            <a:endParaRPr b="0" lang="en-US" sz="3200" spc="-1" strike="noStrike">
              <a:solidFill>
                <a:srgbClr val="000000"/>
              </a:solidFill>
              <a:latin typeface="Calibri"/>
            </a:endParaRPr>
          </a:p>
        </p:txBody>
      </p:sp>
      <p:graphicFrame>
        <p:nvGraphicFramePr>
          <p:cNvPr id="2611" name=""/>
          <p:cNvGraphicFramePr/>
          <p:nvPr/>
        </p:nvGraphicFramePr>
        <p:xfrm>
          <a:off x="395280" y="1773360"/>
          <a:ext cx="8353440" cy="4608360"/>
        </p:xfrm>
        <a:graphic>
          <a:graphicData uri="http://schemas.openxmlformats.org/drawingml/2006/table">
            <a:tbl>
              <a:tblPr/>
              <a:tblGrid>
                <a:gridCol w="2016000"/>
                <a:gridCol w="6337440"/>
              </a:tblGrid>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Key date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Activity</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7 Oct – 1 Dec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rPr>
                        <a:t>ECO2.1</a:t>
                      </a:r>
                      <a:r>
                        <a:rPr b="0" lang="en-GB" sz="2000" spc="-1" strike="noStrike">
                          <a:solidFill>
                            <a:srgbClr val="000000"/>
                          </a:solidFill>
                          <a:latin typeface="Calibri"/>
                        </a:rPr>
                        <a:t> consultation on specific HHCRO requirement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 Nov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libri"/>
                        </a:rPr>
                        <a:t>ECO2.1</a:t>
                      </a:r>
                      <a:r>
                        <a:rPr b="0" lang="en-US" sz="2000" spc="-1" strike="noStrike">
                          <a:solidFill>
                            <a:srgbClr val="000000"/>
                          </a:solidFill>
                          <a:latin typeface="Calibri"/>
                        </a:rPr>
                        <a:t> consultation workshop (London) (1 of 2)</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04 Dec – 21 Jan</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ECO2.2</a:t>
                      </a:r>
                      <a:r>
                        <a:rPr b="0" lang="en-GB" sz="2000" spc="-1" strike="noStrike">
                          <a:solidFill>
                            <a:srgbClr val="000000"/>
                          </a:solidFill>
                          <a:latin typeface="Calibri"/>
                        </a:rPr>
                        <a:t> consultation on all other policy area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05 Dec</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CO2 Order comes into force</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8 Jan</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CO2.2</a:t>
                      </a:r>
                      <a:r>
                        <a:rPr b="0" lang="en-US" sz="2000" spc="-1" strike="noStrike">
                          <a:solidFill>
                            <a:srgbClr val="000000"/>
                          </a:solidFill>
                          <a:latin typeface="Calibri"/>
                        </a:rPr>
                        <a:t> consultation workshop (London) (1 of 2)</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1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4 Jan</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gem publish ECO2.1 guidance note (with surplus actions chapter) and response to consultation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Jan</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CO2.2</a:t>
                      </a:r>
                      <a:r>
                        <a:rPr b="0" lang="en-US" sz="2000" spc="-1" strike="noStrike">
                          <a:solidFill>
                            <a:srgbClr val="000000"/>
                          </a:solidFill>
                          <a:latin typeface="Calibri"/>
                        </a:rPr>
                        <a:t> consultation workshop (Glasgow) (2 of 2)</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arly Mar</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gem publish full ECO2 guidance (incorporating ECO2.1 guidance note) and response to consultation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8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01 Apr</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CO2 begin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title"/>
          </p:nvPr>
        </p:nvSpPr>
        <p:spPr>
          <a:xfrm>
            <a:off x="539640" y="1125360"/>
            <a:ext cx="802800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eef"/>
                </a:solidFill>
                <a:latin typeface="Arial"/>
              </a:rPr>
              <a:t>Agenda</a:t>
            </a:r>
            <a:endParaRPr b="0" lang="en-US" sz="4000" spc="-1" strike="noStrike">
              <a:solidFill>
                <a:srgbClr val="00aeef"/>
              </a:solidFill>
              <a:latin typeface="Arial"/>
            </a:endParaRPr>
          </a:p>
        </p:txBody>
      </p:sp>
      <p:sp>
        <p:nvSpPr>
          <p:cNvPr id="2556" name=""/>
          <p:cNvSpPr txBox="1"/>
          <p:nvPr/>
        </p:nvSpPr>
        <p:spPr>
          <a:xfrm>
            <a:off x="468360" y="1844640"/>
            <a:ext cx="8028000" cy="4392720"/>
          </a:xfrm>
          <a:prstGeom prst="rect">
            <a:avLst/>
          </a:prstGeom>
          <a:noFill/>
          <a:ln w="0">
            <a:noFill/>
          </a:ln>
        </p:spPr>
        <p:txBody>
          <a:bodyPr lIns="0" rIns="0" tIns="0" bIns="0" anchor="t">
            <a:norm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tions from last meeting (28/11/14)</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WI  guidance</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sumer Focus call for evidence on quality assurance</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scussion on  ECO interaction with consumers</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C </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T Openreach</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rokerage Operations</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rokerage contract review</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evolution</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Ofgem</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uidance</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TTCs</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Excess actions</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atest figures</a:t>
            </a: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porting simplification</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ata Matching</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ate of next meeting / meeting frequency</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OB</a:t>
            </a:r>
            <a:endParaRPr b="0" lang="en-US" sz="15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7" name="Slide Number Placeholder 3"/>
          <p:cNvSpPr/>
          <p:nvPr/>
        </p:nvSpPr>
        <p:spPr>
          <a:xfrm>
            <a:off x="0" y="6308640"/>
            <a:ext cx="9144000" cy="549360"/>
          </a:xfrm>
          <a:prstGeom prst="rect">
            <a:avLst/>
          </a:prstGeom>
          <a:solidFill>
            <a:srgbClr val="00aeef"/>
          </a:solidFill>
          <a:ln w="0">
            <a:noFill/>
          </a:ln>
        </p:spPr>
        <p:style>
          <a:lnRef idx="0"/>
          <a:fillRef idx="0"/>
          <a:effectRef idx="0"/>
          <a:fontRef idx="minor"/>
        </p:style>
        <p:txBody>
          <a:bodyPr lIns="0" rIns="90000" tIns="0" bIns="0" anchor="ctr">
            <a:normAutofit/>
          </a:bodyPr>
          <a:p>
            <a:pPr marL="53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64CB-4F08-4838-80D6-62ADFD47AF32}" type="slidenum">
              <a:rPr b="0" lang="en-US" sz="1200" spc="-1" strike="noStrike">
                <a:solidFill>
                  <a:srgbClr val="ffffff"/>
                </a:solidFill>
                <a:latin typeface="Calibri"/>
                <a:ea typeface="Arial"/>
              </a:rPr>
              <a:t>&lt;number&gt;</a:t>
            </a:fld>
            <a:endParaRPr b="0" lang="en-US" sz="1200" spc="-1" strike="noStrike">
              <a:solidFill>
                <a:srgbClr val="000000"/>
              </a:solidFill>
              <a:latin typeface="Calibri"/>
            </a:endParaRPr>
          </a:p>
        </p:txBody>
      </p:sp>
      <p:sp>
        <p:nvSpPr>
          <p:cNvPr id="2558" name="Footer Placeholder 4"/>
          <p:cNvSpPr/>
          <p:nvPr/>
        </p:nvSpPr>
        <p:spPr>
          <a:xfrm>
            <a:off x="900000" y="6308640"/>
            <a:ext cx="7704360" cy="549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CO Steering Group 30 January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title"/>
          </p:nvPr>
        </p:nvSpPr>
        <p:spPr>
          <a:xfrm>
            <a:off x="1790640" y="455760"/>
            <a:ext cx="6935760" cy="2692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6a74"/>
                </a:solidFill>
                <a:latin typeface="Arial"/>
              </a:rPr>
              <a:t>ECO consumer issues</a:t>
            </a:r>
            <a:br>
              <a:rPr sz="3600"/>
            </a:br>
            <a:r>
              <a:rPr b="1" lang="en-GB" sz="3600" spc="-1" strike="noStrike">
                <a:solidFill>
                  <a:srgbClr val="006a74"/>
                </a:solidFill>
                <a:latin typeface="Arial"/>
              </a:rPr>
              <a:t>January 2015</a:t>
            </a:r>
            <a:br>
              <a:rPr sz="3600"/>
            </a:br>
            <a:br>
              <a:rPr sz="3600"/>
            </a:br>
            <a:r>
              <a:rPr b="0" lang="en-GB" sz="2400" spc="-1" strike="noStrike">
                <a:solidFill>
                  <a:srgbClr val="000000"/>
                </a:solidFill>
                <a:latin typeface="Arial"/>
              </a:rPr>
              <a:t>Peter Broad, Policy Manager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CB21-88B7-49C5-8385-E7E13AA2D237}" type="slidenum">
              <a:rPr b="0" lang="en-US"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561" name="TextBox 2"/>
          <p:cNvSpPr/>
          <p:nvPr/>
        </p:nvSpPr>
        <p:spPr>
          <a:xfrm>
            <a:off x="779400" y="281160"/>
            <a:ext cx="757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ffff"/>
                </a:solidFill>
                <a:latin typeface="Arial"/>
                <a:ea typeface="Arial"/>
              </a:rPr>
              <a:t>Quality assurance project</a:t>
            </a:r>
            <a:endParaRPr b="0" lang="en-US" sz="3600" spc="-1" strike="noStrike">
              <a:solidFill>
                <a:srgbClr val="000000"/>
              </a:solidFill>
              <a:latin typeface="Calibri"/>
            </a:endParaRPr>
          </a:p>
        </p:txBody>
      </p:sp>
      <p:sp>
        <p:nvSpPr>
          <p:cNvPr id="2562" name="Rectangle 1"/>
          <p:cNvSpPr/>
          <p:nvPr/>
        </p:nvSpPr>
        <p:spPr>
          <a:xfrm>
            <a:off x="325440" y="1558800"/>
            <a:ext cx="8361360" cy="4359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Arial"/>
                <a:ea typeface="Arial"/>
              </a:rPr>
              <a:t>Drivers</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he complexity of the current framework of quality assurance regimes across Government energy efficiency and low carbon schemes</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oncerns about the delivery of quality within these schemes</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63" name="TextBox 1"/>
          <p:cNvSpPr/>
          <p:nvPr/>
        </p:nvSpPr>
        <p:spPr>
          <a:xfrm>
            <a:off x="87480" y="6256440"/>
            <a:ext cx="447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Arial"/>
              </a:rPr>
              <a:t>Citizens Advi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Arial"/>
              </a:rPr>
              <a:t>ECO steering group, January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4" name="TextBox 1"/>
          <p:cNvSpPr/>
          <p:nvPr/>
        </p:nvSpPr>
        <p:spPr>
          <a:xfrm>
            <a:off x="87480" y="6256440"/>
            <a:ext cx="447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Arial"/>
              </a:rPr>
              <a:t>Citizens Advi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Arial"/>
              </a:rPr>
              <a:t>ECO steering group, January 2015</a:t>
            </a:r>
            <a:endParaRPr b="0" lang="en-US" sz="1200" spc="-1" strike="noStrike">
              <a:solidFill>
                <a:srgbClr val="000000"/>
              </a:solidFill>
              <a:latin typeface="Calibri"/>
            </a:endParaRPr>
          </a:p>
        </p:txBody>
      </p:sp>
      <p:sp>
        <p:nvSpPr>
          <p:cNvPr id="25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E7EE-5EBF-40E1-9135-C67168365AE1}" type="slidenum">
              <a:rPr b="0" lang="en-US"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566" name="TextBox 2"/>
          <p:cNvSpPr/>
          <p:nvPr/>
        </p:nvSpPr>
        <p:spPr>
          <a:xfrm>
            <a:off x="779400" y="281160"/>
            <a:ext cx="757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ffff"/>
                </a:solidFill>
                <a:latin typeface="Arial"/>
                <a:ea typeface="Arial"/>
              </a:rPr>
              <a:t>Quality assurance project</a:t>
            </a:r>
            <a:endParaRPr b="0" lang="en-US" sz="3600" spc="-1" strike="noStrike">
              <a:solidFill>
                <a:srgbClr val="000000"/>
              </a:solidFill>
              <a:latin typeface="Calibri"/>
            </a:endParaRPr>
          </a:p>
        </p:txBody>
      </p:sp>
      <p:sp>
        <p:nvSpPr>
          <p:cNvPr id="2567" name="Rectangle 1"/>
          <p:cNvSpPr/>
          <p:nvPr/>
        </p:nvSpPr>
        <p:spPr>
          <a:xfrm>
            <a:off x="325440" y="1558800"/>
            <a:ext cx="8361360" cy="4786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Arial"/>
                <a:ea typeface="Arial"/>
              </a:rPr>
              <a:t>Method</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ommissioned research consultants (</a:t>
            </a:r>
            <a:r>
              <a:rPr b="0" i="1" lang="en-GB" sz="2800" spc="-1" strike="noStrike">
                <a:solidFill>
                  <a:srgbClr val="000000"/>
                </a:solidFill>
                <a:latin typeface="Arial"/>
                <a:ea typeface="Arial"/>
              </a:rPr>
              <a:t>Pye Tait</a:t>
            </a:r>
            <a:r>
              <a:rPr b="0" lang="en-GB" sz="2800" spc="-1" strike="noStrike">
                <a:solidFill>
                  <a:srgbClr val="000000"/>
                </a:solidFill>
                <a:latin typeface="Arial"/>
                <a:ea typeface="Arial"/>
              </a:rPr>
              <a:t>)</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Mapping exercise</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all for evidence (Deadline 19</a:t>
            </a:r>
            <a:r>
              <a:rPr b="0" lang="en-GB" sz="2800" spc="-1" strike="noStrike" baseline="30000">
                <a:solidFill>
                  <a:srgbClr val="000000"/>
                </a:solidFill>
                <a:latin typeface="Arial"/>
                <a:ea typeface="Arial"/>
              </a:rPr>
              <a:t>th</a:t>
            </a:r>
            <a:r>
              <a:rPr b="0" lang="en-GB" sz="2800" spc="-1" strike="noStrike">
                <a:solidFill>
                  <a:srgbClr val="000000"/>
                </a:solidFill>
                <a:latin typeface="Arial"/>
                <a:ea typeface="Arial"/>
              </a:rPr>
              <a:t> January)</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	</a:t>
            </a:r>
            <a:r>
              <a:rPr b="0" i="1" lang="en-GB" sz="2800" spc="-1" strike="noStrike">
                <a:solidFill>
                  <a:srgbClr val="ff0000"/>
                </a:solidFill>
                <a:latin typeface="Arial"/>
                <a:ea typeface="Arial"/>
              </a:rPr>
              <a:t>Extended until end January</a:t>
            </a:r>
            <a:r>
              <a:rPr b="0" lang="en-GB" sz="2800" spc="-1" strike="noStrike">
                <a:solidFill>
                  <a:srgbClr val="ff0000"/>
                </a:solidFill>
                <a:latin typeface="Arial"/>
                <a:ea typeface="Arial"/>
              </a:rPr>
              <a:t> </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In-depth interviews (February)</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Report and recommendations (March-April)</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 </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8" name="TextBox 1"/>
          <p:cNvSpPr/>
          <p:nvPr/>
        </p:nvSpPr>
        <p:spPr>
          <a:xfrm>
            <a:off x="87480" y="6256440"/>
            <a:ext cx="447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Arial"/>
              </a:rPr>
              <a:t>Citizens Advi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Arial"/>
              </a:rPr>
              <a:t>ECO steering group, January 2015</a:t>
            </a:r>
            <a:endParaRPr b="0" lang="en-US" sz="1200" spc="-1" strike="noStrike">
              <a:solidFill>
                <a:srgbClr val="000000"/>
              </a:solidFill>
              <a:latin typeface="Calibri"/>
            </a:endParaRPr>
          </a:p>
        </p:txBody>
      </p:sp>
      <p:sp>
        <p:nvSpPr>
          <p:cNvPr id="25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067E-5AEA-4E97-B782-E44D71886283}" type="slidenum">
              <a:rPr b="0" lang="en-US"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570" name="TextBox 2"/>
          <p:cNvSpPr/>
          <p:nvPr/>
        </p:nvSpPr>
        <p:spPr>
          <a:xfrm>
            <a:off x="779400" y="281160"/>
            <a:ext cx="757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ffff"/>
                </a:solidFill>
                <a:latin typeface="Arial"/>
                <a:ea typeface="Arial"/>
              </a:rPr>
              <a:t>Quality assurance project</a:t>
            </a:r>
            <a:endParaRPr b="0" lang="en-US" sz="3600" spc="-1" strike="noStrike">
              <a:solidFill>
                <a:srgbClr val="000000"/>
              </a:solidFill>
              <a:latin typeface="Calibri"/>
            </a:endParaRPr>
          </a:p>
        </p:txBody>
      </p:sp>
      <p:sp>
        <p:nvSpPr>
          <p:cNvPr id="2571" name="Rectangle 1"/>
          <p:cNvSpPr/>
          <p:nvPr/>
        </p:nvSpPr>
        <p:spPr>
          <a:xfrm>
            <a:off x="325440" y="1558800"/>
            <a:ext cx="8361360" cy="4359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Arial"/>
                <a:ea typeface="Arial"/>
              </a:rPr>
              <a:t>What works and what doesn’t?</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Guarantees </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Installer standards especially PAS 2030</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echnical monitoring</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Accreditation processes </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onsumer advice and redress</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2" name="TextBox 1"/>
          <p:cNvSpPr/>
          <p:nvPr/>
        </p:nvSpPr>
        <p:spPr>
          <a:xfrm>
            <a:off x="87480" y="6256440"/>
            <a:ext cx="447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Arial"/>
              </a:rPr>
              <a:t>Citizens Advi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Arial"/>
              </a:rPr>
              <a:t>ECO steering group, January 2015</a:t>
            </a:r>
            <a:endParaRPr b="0" lang="en-US" sz="1200" spc="-1" strike="noStrike">
              <a:solidFill>
                <a:srgbClr val="000000"/>
              </a:solidFill>
              <a:latin typeface="Calibri"/>
            </a:endParaRPr>
          </a:p>
        </p:txBody>
      </p:sp>
      <p:sp>
        <p:nvSpPr>
          <p:cNvPr id="25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01BD-8B8A-482C-9519-82747AC7DFA7}" type="slidenum">
              <a:rPr b="0" lang="en-US"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574" name="TextBox 2"/>
          <p:cNvSpPr/>
          <p:nvPr/>
        </p:nvSpPr>
        <p:spPr>
          <a:xfrm>
            <a:off x="779400" y="281160"/>
            <a:ext cx="757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ffff"/>
                </a:solidFill>
                <a:latin typeface="Arial"/>
                <a:ea typeface="Arial"/>
              </a:rPr>
              <a:t>Quality assurance project</a:t>
            </a:r>
            <a:endParaRPr b="0" lang="en-US" sz="3600" spc="-1" strike="noStrike">
              <a:solidFill>
                <a:srgbClr val="000000"/>
              </a:solidFill>
              <a:latin typeface="Calibri"/>
            </a:endParaRPr>
          </a:p>
        </p:txBody>
      </p:sp>
      <p:sp>
        <p:nvSpPr>
          <p:cNvPr id="2575" name="Rectangle 1"/>
          <p:cNvSpPr/>
          <p:nvPr/>
        </p:nvSpPr>
        <p:spPr>
          <a:xfrm>
            <a:off x="325440" y="1558800"/>
            <a:ext cx="8361360" cy="2226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Arial"/>
                <a:ea typeface="Arial"/>
              </a:rPr>
              <a:t>Get in touch</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 </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76" name="TextBox 1"/>
          <p:cNvSpPr/>
          <p:nvPr/>
        </p:nvSpPr>
        <p:spPr>
          <a:xfrm>
            <a:off x="1596960" y="3780000"/>
            <a:ext cx="735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5ab6"/>
                </a:solidFill>
                <a:latin typeface="Arial"/>
                <a:ea typeface="Arial"/>
              </a:rPr>
              <a:t>Email</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5ab6"/>
                </a:solidFill>
                <a:latin typeface="Arial"/>
                <a:ea typeface="Arial"/>
              </a:rPr>
              <a:t>Peter.Broad@citizensadvice.org.uk</a:t>
            </a:r>
            <a:endParaRPr b="0" lang="en-US" sz="2400" spc="-1" strike="noStrike">
              <a:solidFill>
                <a:srgbClr val="000000"/>
              </a:solidFill>
              <a:latin typeface="Calibri"/>
            </a:endParaRPr>
          </a:p>
        </p:txBody>
      </p:sp>
      <p:pic>
        <p:nvPicPr>
          <p:cNvPr id="2577" name="Picture 4" descr="https://encrypted-tbn1.gstatic.com/images?q=tbn:ANd9GcS70WrjezL6o4SNck4kgOeirm6cN-E0PDwQmtzThWnfN7-7tDe0">
            <a:hlinkClick r:id="rId2"/>
          </p:cNvPr>
          <p:cNvPicPr/>
          <p:nvPr/>
        </p:nvPicPr>
        <p:blipFill>
          <a:blip r:embed="rId3"/>
          <a:stretch/>
        </p:blipFill>
        <p:spPr>
          <a:xfrm>
            <a:off x="390600" y="3632040"/>
            <a:ext cx="965160" cy="963720"/>
          </a:xfrm>
          <a:prstGeom prst="rect">
            <a:avLst/>
          </a:prstGeom>
          <a:ln w="0">
            <a:noFill/>
          </a:ln>
        </p:spPr>
      </p:pic>
      <p:sp>
        <p:nvSpPr>
          <p:cNvPr id="2578" name="TextBox 1"/>
          <p:cNvSpPr/>
          <p:nvPr/>
        </p:nvSpPr>
        <p:spPr>
          <a:xfrm>
            <a:off x="1596960" y="2536920"/>
            <a:ext cx="735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5ab6"/>
                </a:solidFill>
                <a:latin typeface="Arial"/>
                <a:ea typeface="Arial"/>
              </a:rPr>
              <a:t>Survey</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5ab6"/>
                </a:solidFill>
                <a:latin typeface="Arial"/>
                <a:ea typeface="Arial"/>
              </a:rPr>
              <a:t>www.pyetait.com/energyquality</a:t>
            </a:r>
            <a:endParaRPr b="0" lang="en-US" sz="2400" spc="-1" strike="noStrike">
              <a:solidFill>
                <a:srgbClr val="000000"/>
              </a:solidFill>
              <a:latin typeface="Calibri"/>
            </a:endParaRPr>
          </a:p>
        </p:txBody>
      </p:sp>
      <p:pic>
        <p:nvPicPr>
          <p:cNvPr id="2579" name="Picture 1" descr=""/>
          <p:cNvPicPr/>
          <p:nvPr/>
        </p:nvPicPr>
        <p:blipFill>
          <a:blip r:embed="rId4"/>
          <a:stretch/>
        </p:blipFill>
        <p:spPr>
          <a:xfrm>
            <a:off x="390600" y="2459160"/>
            <a:ext cx="1047600" cy="98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0" name="TextBox 2"/>
          <p:cNvSpPr/>
          <p:nvPr/>
        </p:nvSpPr>
        <p:spPr>
          <a:xfrm>
            <a:off x="874800" y="281160"/>
            <a:ext cx="757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ffff"/>
                </a:solidFill>
                <a:latin typeface="Arial"/>
                <a:ea typeface="Arial"/>
              </a:rPr>
              <a:t>ECO interaction with consumers</a:t>
            </a:r>
            <a:endParaRPr b="0" lang="en-US" sz="3600" spc="-1" strike="noStrike">
              <a:solidFill>
                <a:srgbClr val="000000"/>
              </a:solidFill>
              <a:latin typeface="Calibri"/>
            </a:endParaRPr>
          </a:p>
        </p:txBody>
      </p:sp>
      <p:sp>
        <p:nvSpPr>
          <p:cNvPr id="2581" name="Rectangle 1"/>
          <p:cNvSpPr/>
          <p:nvPr/>
        </p:nvSpPr>
        <p:spPr>
          <a:xfrm>
            <a:off x="318960" y="1636560"/>
            <a:ext cx="8342280" cy="825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2" name="TextBox 1"/>
          <p:cNvSpPr/>
          <p:nvPr/>
        </p:nvSpPr>
        <p:spPr>
          <a:xfrm>
            <a:off x="87480" y="6256440"/>
            <a:ext cx="447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Arial"/>
              </a:rPr>
              <a:t>Citizens Advi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Arial"/>
              </a:rPr>
              <a:t>ECO steering group, January 2015</a:t>
            </a:r>
            <a:endParaRPr b="0" lang="en-US" sz="1200" spc="-1" strike="noStrike">
              <a:solidFill>
                <a:srgbClr val="000000"/>
              </a:solidFill>
              <a:latin typeface="Calibri"/>
            </a:endParaRPr>
          </a:p>
        </p:txBody>
      </p:sp>
      <p:sp>
        <p:nvSpPr>
          <p:cNvPr id="2583" name="Rectangle 1"/>
          <p:cNvSpPr/>
          <p:nvPr/>
        </p:nvSpPr>
        <p:spPr>
          <a:xfrm>
            <a:off x="325440" y="1558800"/>
            <a:ext cx="8361360" cy="5213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Is there a need to make ECO more customer focused and if so, how could Government ensure and/or support this?</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Arial"/>
                <a:ea typeface="Arial"/>
              </a:rPr>
              <a:t>Issues for discussion</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larity/variability of consumer offer and the assessment process</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ustomer contributions</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Referral routes </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Proving benefit status </a:t>
            </a:r>
            <a:endParaRPr b="0" lang="en-US" sz="2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 </a:t>
            </a:r>
            <a:endParaRPr b="0" lang="en-US" sz="2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PlaceHolder 1"/>
          <p:cNvSpPr>
            <a:spLocks noGrp="1"/>
          </p:cNvSpPr>
          <p:nvPr>
            <p:ph type="title"/>
          </p:nvPr>
        </p:nvSpPr>
        <p:spPr>
          <a:xfrm>
            <a:off x="468000" y="1368000"/>
            <a:ext cx="811836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aeef"/>
                </a:solidFill>
                <a:latin typeface="Arial"/>
              </a:rPr>
              <a:t>ECO Brokerage</a:t>
            </a:r>
            <a:endParaRPr b="0" lang="en-US" sz="2400" spc="-1" strike="noStrike">
              <a:solidFill>
                <a:srgbClr val="00aeef"/>
              </a:solidFill>
              <a:latin typeface="Arial"/>
            </a:endParaRPr>
          </a:p>
        </p:txBody>
      </p:sp>
      <p:sp>
        <p:nvSpPr>
          <p:cNvPr id="2585" name=""/>
          <p:cNvSpPr txBox="1"/>
          <p:nvPr/>
        </p:nvSpPr>
        <p:spPr>
          <a:xfrm>
            <a:off x="5219640" y="3177720"/>
            <a:ext cx="2232000" cy="792360"/>
          </a:xfrm>
          <a:prstGeom prst="rect">
            <a:avLst/>
          </a:prstGeom>
          <a:noFill/>
          <a:ln w="0">
            <a:noFill/>
          </a:ln>
        </p:spPr>
        <p:txBody>
          <a:bodyPr lIns="0" rIns="0" tIns="0" bIns="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ngs information</a:t>
            </a:r>
            <a:endParaRPr b="0" lang="en-US" sz="1800" spc="-1" strike="noStrike">
              <a:solidFill>
                <a:srgbClr val="00aeef"/>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Arial"/>
            </a:endParaRPr>
          </a:p>
        </p:txBody>
      </p:sp>
      <p:sp>
        <p:nvSpPr>
          <p:cNvPr id="2586" name="Slide Number Placeholder 4"/>
          <p:cNvSpPr/>
          <p:nvPr/>
        </p:nvSpPr>
        <p:spPr>
          <a:xfrm>
            <a:off x="0" y="6308640"/>
            <a:ext cx="9144000" cy="549360"/>
          </a:xfrm>
          <a:prstGeom prst="rect">
            <a:avLst/>
          </a:prstGeom>
          <a:solidFill>
            <a:srgbClr val="00aeef"/>
          </a:solidFill>
          <a:ln w="0">
            <a:noFill/>
          </a:ln>
        </p:spPr>
        <p:style>
          <a:lnRef idx="0"/>
          <a:fillRef idx="0"/>
          <a:effectRef idx="0"/>
          <a:fontRef idx="minor"/>
        </p:style>
        <p:txBody>
          <a:bodyPr lIns="0" rIns="90000" tIns="0" bIns="0" anchor="ctr">
            <a:normAutofit/>
          </a:bodyPr>
          <a:p>
            <a:pPr marL="53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8292-1E01-4D57-A46E-89BD22761A9D}" type="slidenum">
              <a:rPr b="0" lang="en-US" sz="1200" spc="-1" strike="noStrike">
                <a:solidFill>
                  <a:srgbClr val="ffffff"/>
                </a:solidFill>
                <a:latin typeface="Calibri"/>
                <a:ea typeface="Arial"/>
              </a:rPr>
              <a:t>&lt;number&gt;</a:t>
            </a:fld>
            <a:endParaRPr b="0" lang="en-US" sz="1200" spc="-1" strike="noStrike">
              <a:solidFill>
                <a:srgbClr val="000000"/>
              </a:solidFill>
              <a:latin typeface="Calibri"/>
            </a:endParaRPr>
          </a:p>
        </p:txBody>
      </p:sp>
      <p:sp>
        <p:nvSpPr>
          <p:cNvPr id="2587" name="Footer Placeholder 5"/>
          <p:cNvSpPr/>
          <p:nvPr/>
        </p:nvSpPr>
        <p:spPr>
          <a:xfrm>
            <a:off x="900000" y="6308640"/>
            <a:ext cx="7704360" cy="549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resentation title - edit in Header and Footer</a:t>
            </a:r>
            <a:endParaRPr b="0" lang="en-US" sz="1200" spc="-1" strike="noStrike">
              <a:solidFill>
                <a:srgbClr val="000000"/>
              </a:solidFill>
              <a:latin typeface="Calibri"/>
            </a:endParaRPr>
          </a:p>
        </p:txBody>
      </p:sp>
      <p:graphicFrame>
        <p:nvGraphicFramePr>
          <p:cNvPr id="2588" name=""/>
          <p:cNvGraphicFramePr/>
          <p:nvPr/>
        </p:nvGraphicFramePr>
        <p:xfrm>
          <a:off x="5219640" y="3990960"/>
          <a:ext cx="3024360" cy="1944720"/>
        </p:xfrm>
        <a:graphic>
          <a:graphicData uri="http://schemas.openxmlformats.org/drawingml/2006/table">
            <a:tbl>
              <a:tblPr/>
              <a:tblGrid>
                <a:gridCol w="1440000"/>
                <a:gridCol w="1584360"/>
              </a:tblGrid>
              <a:tr h="360360">
                <a:tc gridSpan="2">
                  <a:txBody>
                    <a:bodyPr lIns="68400" rIns="6840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urrent Brokerage Participants' Ratings</a:t>
                      </a:r>
                      <a:endParaRPr b="0" lang="en-US" sz="1000" spc="-1" strike="noStrike">
                        <a:solidFill>
                          <a:srgbClr val="000000"/>
                        </a:solidFill>
                        <a:latin typeface="Calibri"/>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aee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82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ating</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00aee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ber of participants</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cbe3f9"/>
                    </a:solidFill>
                  </a:tcPr>
                </a:tc>
              </a:tr>
              <a:tr h="182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aee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82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0</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aee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cbe3f9"/>
                    </a:solidFill>
                  </a:tcPr>
                </a:tc>
              </a:tr>
              <a:tr h="182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t;100*</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aee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83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t;100</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aee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cbe3f9"/>
                    </a:solidFill>
                  </a:tcPr>
                </a:tc>
              </a:tr>
              <a:tr h="182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ew</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aee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8</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82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aee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cbe3f9"/>
                    </a:solidFill>
                  </a:tcPr>
                </a:tc>
              </a:tr>
              <a:tr h="304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Total Number of Participants</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aee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bl>
          </a:graphicData>
        </a:graphic>
      </p:graphicFrame>
      <p:sp>
        <p:nvSpPr>
          <p:cNvPr id="2589" name=""/>
          <p:cNvSpPr txBox="1"/>
          <p:nvPr/>
        </p:nvSpPr>
        <p:spPr>
          <a:xfrm>
            <a:off x="468360" y="1483920"/>
            <a:ext cx="2232000" cy="865080"/>
          </a:xfrm>
          <a:prstGeom prst="rect">
            <a:avLst/>
          </a:prstGeom>
          <a:noFill/>
          <a:ln w="0">
            <a:noFill/>
          </a:ln>
        </p:spPr>
        <p:txBody>
          <a:bodyPr lIns="0" rIns="0" tIns="0" bIns="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ract review</a:t>
            </a:r>
            <a:endParaRPr b="0" lang="en-US" sz="1800" spc="-1" strike="noStrike">
              <a:solidFill>
                <a:srgbClr val="00aeef"/>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Arial"/>
            </a:endParaRPr>
          </a:p>
        </p:txBody>
      </p:sp>
      <p:sp>
        <p:nvSpPr>
          <p:cNvPr id="2590" name="TextBox 10"/>
          <p:cNvSpPr/>
          <p:nvPr/>
        </p:nvSpPr>
        <p:spPr>
          <a:xfrm>
            <a:off x="395280" y="2276640"/>
            <a:ext cx="403236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aft published on Burges Salmon portal for feedback by 4 Feb.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sion 1 </a:t>
            </a:r>
            <a:r>
              <a:rPr b="0" lang="en-GB" sz="1400" spc="-1" strike="noStrike">
                <a:solidFill>
                  <a:srgbClr val="000000"/>
                </a:solidFill>
                <a:latin typeface="Arial"/>
              </a:rPr>
              <a:t>- Contract published in March with chang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sion 2 </a:t>
            </a:r>
            <a:r>
              <a:rPr b="0" lang="en-GB" sz="1400" spc="-1" strike="noStrike">
                <a:solidFill>
                  <a:srgbClr val="000000"/>
                </a:solidFill>
                <a:latin typeface="Arial"/>
              </a:rPr>
              <a:t>- Contract published in April/ May with all change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ulta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DPs - 30</a:t>
            </a:r>
            <a:r>
              <a:rPr b="0" lang="en-GB" sz="1400" spc="-1" strike="noStrike" baseline="30000">
                <a:solidFill>
                  <a:srgbClr val="000000"/>
                </a:solidFill>
                <a:latin typeface="Arial"/>
              </a:rPr>
              <a:t>th</a:t>
            </a:r>
            <a:r>
              <a:rPr b="0" lang="en-GB" sz="1400" spc="-1" strike="noStrike">
                <a:solidFill>
                  <a:srgbClr val="000000"/>
                </a:solidFill>
                <a:latin typeface="Arial"/>
              </a:rPr>
              <a:t> Ja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keholder session prior to publication of second version of the contract.   Data tb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91" name=""/>
          <p:cNvSpPr txBox="1"/>
          <p:nvPr/>
        </p:nvSpPr>
        <p:spPr>
          <a:xfrm>
            <a:off x="5219640" y="1557000"/>
            <a:ext cx="2232000" cy="863640"/>
          </a:xfrm>
          <a:prstGeom prst="rect">
            <a:avLst/>
          </a:prstGeom>
          <a:noFill/>
          <a:ln w="0">
            <a:noFill/>
          </a:ln>
        </p:spPr>
        <p:txBody>
          <a:bodyPr lIns="0" rIns="0" tIns="0" bIns="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ding</a:t>
            </a:r>
            <a:endParaRPr b="0" lang="en-US" sz="1800" spc="-1" strike="noStrike">
              <a:solidFill>
                <a:srgbClr val="00aeef"/>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Arial"/>
            </a:endParaRPr>
          </a:p>
        </p:txBody>
      </p:sp>
      <p:sp>
        <p:nvSpPr>
          <p:cNvPr id="2592" name=""/>
          <p:cNvSpPr txBox="1"/>
          <p:nvPr/>
        </p:nvSpPr>
        <p:spPr>
          <a:xfrm>
            <a:off x="5219280" y="2349000"/>
            <a:ext cx="3313080" cy="1150920"/>
          </a:xfrm>
          <a:prstGeom prst="rect">
            <a:avLst/>
          </a:prstGeom>
          <a:noFill/>
          <a:ln w="0">
            <a:noFill/>
          </a:ln>
        </p:spPr>
        <p:txBody>
          <a:bodyPr lIns="0" rIns="0" tIns="0" bIns="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ero trading – 3 consecutive auctions.  </a:t>
            </a:r>
            <a:endParaRPr b="0" lang="en-US" sz="1400" spc="-1" strike="noStrike">
              <a:solidFill>
                <a:srgbClr val="00aeef"/>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aee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6:10:34Z</dcterms:created>
  <dc:creator>%USERNAME%</dc:creator>
  <dc:description/>
  <dc:language>en-US</dc:language>
  <cp:lastModifiedBy>Ebdon Lynne (Green Deal)</cp:lastModifiedBy>
  <cp:lastPrinted>2015-01-29T14:46:08Z</cp:lastPrinted>
  <dcterms:modified xsi:type="dcterms:W3CDTF">2015-01-29T17:00:26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
    <vt:lpwstr/>
  </property>
  <property fmtid="{D5CDD505-2E9C-101B-9397-08002B2CF9AE}" pid="3" name="::">
    <vt:lpwstr>-Main Document</vt:lpwstr>
  </property>
  <property fmtid="{D5CDD505-2E9C-101B-9397-08002B2CF9AE}" pid="4" name="Classification">
    <vt:lpwstr>Unclassified</vt:lpwstr>
  </property>
  <property fmtid="{D5CDD505-2E9C-101B-9397-08002B2CF9AE}" pid="5" name="ContentTypeId">
    <vt:lpwstr>0x01010033282546F0D44441B574BEAA5FBE93E400A5D4896C0183C64EBC9671FCC40CA92B</vt:lpwstr>
  </property>
  <property fmtid="{D5CDD505-2E9C-101B-9397-08002B2CF9AE}" pid="6" name="Descriptor">
    <vt:lpwstr/>
  </property>
  <property fmtid="{D5CDD505-2E9C-101B-9397-08002B2CF9AE}" pid="7" name="Organisation">
    <vt:lpwstr>Choose an Organisation</vt:lpwstr>
  </property>
  <property fmtid="{D5CDD505-2E9C-101B-9397-08002B2CF9AE}" pid="8" name="_Status">
    <vt:lpwstr>Draft</vt:lpwstr>
  </property>
</Properties>
</file>